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714EA-CF23-436C-8A03-6B470007EC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D6296-53BB-45FB-8CD8-E3A947EDC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70C21-AC1A-4C82-AF37-7C9D9C25EF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70233-B115-4050-A8EF-4469EEC8A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EDA33-CC28-49D2-83EB-6392DE70D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C132B-499C-4986-87FA-28F5229672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DC888-3EA8-4149-B4CF-DFB88CD3FC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BDE9B-B09F-44D4-B5AF-13C3119A4F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2E564-F29B-47F5-9019-B6A46A18C1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EBFAB-6C12-4910-B6F6-9A56F0255E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9F4E8-A432-4E21-BBC0-722D7366F2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0D945-DD50-4DD5-BB1C-B25A29D7A2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C91B6-7156-46E0-973C-8884944457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4B085-342B-4139-949C-350409F932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49B74-53C4-433D-88D8-00296B6A03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3FA1C-16DE-4C14-BDA1-E707497592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9AC50-02D0-407B-95D3-0529950C90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B4100-E0B7-480D-82B2-63DC5AC60A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757440" y="928800"/>
            <a:ext cx="754164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100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Charles Wilson</cp:lastModifiedBy>
  <dcterms:modified xsi:type="dcterms:W3CDTF">2008-06-02T13:26:47Z</dcterms:modified>
  <cp:revision>81</cp:revision>
  <dc:subject/>
  <dc:title>AT Basic System Example</dc:title>
</cp:coreProperties>
</file>