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C395-051A-4B61-AA7B-2382A35B1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5AC0-07CC-4989-B3FF-6CEF25E69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8CBF-A204-454B-8EF2-D08DD10C9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7B87-2574-4F14-BD81-9B5552E44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D065-F00A-4A43-9CF8-E1D7FEE72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095C-E22F-45D5-8F8B-15C834AE7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BCC4-C49F-478E-85F1-57C3DB2BA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3A85D-11D4-47FF-8289-9E65B731E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7A47-10A8-4A50-AB1D-212203245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8102-740C-4D99-A322-C106815B1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6F7D-475F-4832-BE57-B51EAC47F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742D-56DE-4688-88FB-08B3CAF80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A05A-DE1B-4D74-A007-142110148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69B2-77AD-4D3E-BD55-217A2F50D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21D4-C03E-4FE1-89F1-FE61C8355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90BB-46C4-46F3-AE28-B8A1B29C0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3F89-C6E1-4124-A37F-794C8A13A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E7D2-FF25-46E8-9CE9-0F71EE14E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5744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Charles Wilson</cp:lastModifiedBy>
  <dcterms:modified xsi:type="dcterms:W3CDTF">2008-06-02T13:26:47Z</dcterms:modified>
  <cp:revision>81</cp:revision>
  <dc:subject/>
  <dc:title>AT Basic System Example</dc:title>
</cp:coreProperties>
</file>