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35D-22AA-444A-8283-3F2B0F378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DC42-37B1-41E1-930D-10AA3EEB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6391-16F2-498D-8047-EDF15F4E1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690B-B0C5-473B-A86D-F0A05930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BA8-0232-4BA5-A675-6393E9757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EB16-8BC4-4479-A8DE-C073D8579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ABB3-01F1-4D76-8EBC-54B49F3D2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51AB-7BFB-4D83-9C10-4671686F6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2CFA-2EDD-46F9-9DC5-723F3F0F4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E0DD-362B-42EB-B18D-F0CF39544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93B4-AE70-4DD3-A80C-77B1D6447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CDC5-408B-45BA-A9B7-995318B01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B6F3-EB27-4703-ABD0-E8D96D94F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CDBA-8154-4503-8BF7-5DBBB755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E837-6AC6-4A61-B11D-25B613A0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179A-2E63-4F0A-887B-D3A82534A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C3F7-B6CE-4BD9-A32F-29BB3FDF9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E77-E00E-437A-AC0E-FA7404832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3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4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5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6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7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8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0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2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3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4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5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9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1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4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5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6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8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9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1" name="AutoShape 13"/>
            <p:cNvCxnSpPr>
              <a:stCxn id="312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3" name="AutoShape 17"/>
            <p:cNvCxnSpPr>
              <a:endCxn id="314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7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8" name="AutoShape 51"/>
            <p:cNvCxnSpPr>
              <a:stCxn id="317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9" name="AutoShape 52"/>
            <p:cNvCxnSpPr>
              <a:stCxn id="317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0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4"/>
            <p:cNvCxnSpPr>
              <a:stCxn id="320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5"/>
            <p:cNvCxnSpPr>
              <a:stCxn id="320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3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4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6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8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0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2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6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Rectangle 1028"/>
          <p:cNvSpPr/>
          <p:nvPr/>
        </p:nvSpPr>
        <p:spPr>
          <a:xfrm>
            <a:off x="1072800" y="1027080"/>
            <a:ext cx="47494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47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extension data: 'Initiator ID: 101'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3"/>
          <p:cNvSpPr/>
          <p:nvPr/>
        </p:nvSpPr>
        <p:spPr>
          <a:xfrm>
            <a:off x="6502320" y="2324160"/>
            <a:ext cx="1917720" cy="482400"/>
          </a:xfrm>
          <a:prstGeom prst="wedgeRoundRectCallout">
            <a:avLst>
              <a:gd name="adj1" fmla="val -156416"/>
              <a:gd name="adj2" fmla="val 8856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6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7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8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9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0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4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5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6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7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1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3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6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7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8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0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2" name="AutoShape 156"/>
          <p:cNvCxnSpPr>
            <a:stCxn id="143" idx="3"/>
            <a:endCxn id="144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5" name="AutoShape 157"/>
          <p:cNvCxnSpPr>
            <a:stCxn id="146" idx="2"/>
            <a:endCxn id="147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8" name="AutoShape 158"/>
          <p:cNvCxnSpPr>
            <a:stCxn id="146" idx="0"/>
            <a:endCxn id="149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0" name="AutoShape 159"/>
          <p:cNvCxnSpPr>
            <a:stCxn id="151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2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4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1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5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3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73"/>
          <p:cNvCxnSpPr>
            <a:stCxn id="158" idx="2"/>
            <a:endCxn id="157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0" name="AutoShape 174"/>
          <p:cNvCxnSpPr>
            <a:stCxn id="158" idx="0"/>
            <a:endCxn id="161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1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6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7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9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0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4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6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7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1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2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4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5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6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7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8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1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2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3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4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5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6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0" name="AutoShape 80"/>
          <p:cNvCxnSpPr>
            <a:stCxn id="198" idx="3"/>
            <a:endCxn id="189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81"/>
          <p:cNvCxnSpPr>
            <a:stCxn id="196" idx="3"/>
            <a:endCxn id="189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AutoShape 82"/>
          <p:cNvCxnSpPr>
            <a:stCxn id="189" idx="3"/>
            <a:endCxn id="192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3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4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5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6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7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9" name="AutoShape 90"/>
          <p:cNvCxnSpPr>
            <a:stCxn id="198" idx="1"/>
            <a:endCxn id="205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0" name="AutoShape 91"/>
          <p:cNvCxnSpPr>
            <a:stCxn id="192" idx="1"/>
            <a:endCxn id="208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2"/>
          <p:cNvCxnSpPr>
            <a:stCxn id="198" idx="1"/>
            <a:endCxn id="208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3"/>
          <p:cNvCxnSpPr>
            <a:stCxn id="196" idx="1"/>
            <a:endCxn id="208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94"/>
          <p:cNvCxnSpPr>
            <a:stCxn id="198" idx="2"/>
            <a:endCxn id="199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5"/>
          <p:cNvCxnSpPr>
            <a:stCxn id="199" idx="2"/>
            <a:endCxn id="192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6"/>
          <p:cNvCxnSpPr>
            <a:stCxn id="192" idx="2"/>
            <a:endCxn id="197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7"/>
          <p:cNvCxnSpPr>
            <a:stCxn id="197" idx="2"/>
            <a:endCxn id="196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2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3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4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5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6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0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1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2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3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5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7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8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9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2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3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4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8" name="AutoShape 30"/>
          <p:cNvCxnSpPr>
            <a:stCxn id="259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0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2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9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3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6" name="AutoShape 40"/>
          <p:cNvCxnSpPr>
            <a:stCxn id="256" idx="1"/>
            <a:endCxn id="260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41"/>
          <p:cNvCxnSpPr>
            <a:stCxn id="268" idx="3"/>
            <a:endCxn id="264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9" name="AutoShape 42"/>
          <p:cNvCxnSpPr>
            <a:stCxn id="263" idx="1"/>
            <a:endCxn id="259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40"/>
          <p:cNvCxnSpPr>
            <a:stCxn id="265" idx="2"/>
            <a:endCxn id="263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1073"/>
          <p:cNvCxnSpPr>
            <a:stCxn id="260" idx="2"/>
            <a:endCxn id="275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1074"/>
          <p:cNvCxnSpPr>
            <a:stCxn id="275" idx="2"/>
            <a:endCxn id="268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075"/>
          <p:cNvCxnSpPr>
            <a:stCxn id="268" idx="2"/>
            <a:endCxn id="265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1076"/>
          <p:cNvCxnSpPr>
            <a:stCxn id="260" idx="3"/>
            <a:endCxn id="263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0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0:27:08Z</dcterms:created>
  <dc:creator>Anna Keist, Bill Bunton, Charles Wilson</dc:creator>
  <dc:description/>
  <cp:keywords/>
  <dc:language>en-US</dc:language>
  <cp:lastModifiedBy>Charles Wilson</cp:lastModifiedBy>
  <cp:lastPrinted>2008-06-04T21:18:56Z</cp:lastPrinted>
  <dcterms:modified xsi:type="dcterms:W3CDTF">2008-06-05T21:04:24Z</dcterms:modified>
  <cp:revision>85</cp:revision>
  <dc:subject/>
  <dc:title>AT Basic System Example</dc:title>
</cp:coreProperties>
</file>