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7146-7CF0-4AF2-AE4B-D8BFE4CD2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2DB2-CB0F-4C73-A785-05582E5C0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383E-CACC-489D-A5D4-68C066FFB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6876-2411-457B-9609-EDF6E2C45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0BE3-D5C4-4C34-A9D1-1F3FFF668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AF15-9DB9-4359-B0C4-2977B152E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DA52-6860-4059-8955-608500990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3DFD-3CB3-4B31-95CB-4A09EA73D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9BD0-0325-480C-A5A1-B59013813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7172-3A56-46BA-8572-6FB973704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EDE4-7DBA-4554-A7DD-1DCE9F32F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A73A-8635-481E-836F-4D7D4E543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7E05-6884-4AC1-A393-B69096387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AA12-BA23-4C59-8728-DD2D7399B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A959-930C-4B1A-A972-B3B24DDB0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77B0-AB57-4DB5-A43B-AEFAC1651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3C86-0F99-4753-90E8-BB6871618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9579-69A7-4A0A-9D49-E0D6F19A6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-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1000" y="1027080"/>
            <a:ext cx="4937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2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23200" y="1647720"/>
            <a:ext cx="5085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at_target_4_phase.cpp: 4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8-06-04T21:38:24Z</dcterms:modified>
  <cp:revision>84</cp:revision>
  <dc:subject/>
  <dc:title>AT Basic System Example</dc:title>
</cp:coreProperties>
</file>