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ECB6-C725-443A-8247-E8D400CEA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468F-CE07-43BB-8D24-976D7EC9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B8D-FF28-4488-972F-CB309B90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4547-B946-4D4D-B47A-AF0D4F8D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3A3E-C12D-4E2F-AD63-D3989650B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1DFD-06F7-416D-A148-9805A7DB1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29A3-5856-4A25-A0D9-F54A0EB47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DA66-78BA-480F-B187-8D080D427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FB08-8F06-4ABB-A710-DD6D0B2EA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1CAF-DB15-4F15-A25F-F428BD31E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2590-3B57-4D13-9261-72B6252E0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E0B1-E529-4224-A8AE-8E1F86198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C65B9-6476-437D-8855-E89D2D2CA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E6C6-6F64-4F06-B0C2-116E1F3A7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A2C8-6B4C-4269-A822-E27D069E1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8C70-F9EE-4BD7-AD3E-5462B596B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C073-DCC7-4A29-A700-D58AA0F9D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EF29-559C-4FEE-86A0-71E960A5A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160" y="863640"/>
            <a:ext cx="5904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2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3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6360" y="860400"/>
            <a:ext cx="57373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2_phase.cpp: 47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bw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select_initiator.cpp: 5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8-06-04T21:41:17Z</dcterms:modified>
  <cp:revision>88</cp:revision>
  <dc:subject/>
  <dc:title>AT Basic System Example</dc:title>
</cp:coreProperties>
</file>