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47C1-1D57-4872-90F0-C2CEF2EC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0173-A69A-420C-B77F-EE001D14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D7D1-4B1B-495F-A726-AC47C141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5057-F50A-4EDD-9AE3-E1460FBFD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B67A-D2F4-4A13-BC71-E3C0ED1F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23A5-501A-47F6-8CE5-B8DD29BC7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58D7-26D1-4226-90F9-4BA763CC8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2AE8-93EE-491F-97A0-5833F5CDB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EF4E-B345-4DB8-AB6F-E8582BDC7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453C-9774-4034-A238-D4C1EC31E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D4E6-B964-41BA-BB74-DDA4D66D0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FB1C-54B5-42C0-BB6D-A1C56DDA8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473A-6A5C-4B39-9C53-DB2BFF214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1A85-8523-41EE-945D-155EE5BA5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DC79-46B0-4523-BA88-C39B77BC3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2661-0352-48D4-8A67-29BD4850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FB8E-1C3D-43A9-93B4-940D78E63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DE72-C97C-45FC-AFFE-4740485B6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21800" y="928800"/>
            <a:ext cx="75416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100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. 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dcterms:modified xsi:type="dcterms:W3CDTF">2008-06-04T19:47:11Z</dcterms:modified>
  <cp:revision>83</cp:revision>
  <dc:subject/>
  <dc:title>AT Basic System Example</dc:title>
</cp:coreProperties>
</file>