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A40-CE41-49A6-A375-65066E19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6E86-382B-4B68-A187-266B492B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0382-A1A4-4D01-8FA5-42D1B4EF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0337-F2D4-4BBB-ABA7-9362CAB2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1D50-3988-496F-A4E4-75F99960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22F9-8A1A-441B-9922-870196D2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90EA-D4B2-4392-BEEE-E3D6D5C62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D8CA-161D-4AC2-8CD3-0229EB8BD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D05D-65AD-48CA-8421-72DFA6EC9E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1F25-74B5-4C78-9010-3ABF6FB58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9304-762A-4C76-924A-A1F5425E6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EC45-6CB0-44D4-84A1-B7F9C6F793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EA28-3BC7-4D75-8502-E294B902E8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EC39-E7F7-49A7-BD5E-103DEE0AB3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6B87-2249-4244-B7F3-D1BEF08845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9B1B-1B9A-4F5E-9768-302405331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6F7B-4D9E-4E30-9EAD-F682C6419B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38157-B5B4-4A61-B814-1F7008EB47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C7CB-61E4-45FE-8695-C8FD9BAF3A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C497-7A3F-4A65-9364-E200806219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BFD7-7214-46F5-934D-25EA5CA624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46EA-6727-4AFB-B77D-2B32B011A1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284B-F872-4EBE-8DBD-03EAA80537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FA72-D1F5-41F3-8FF5-B212D3CC1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BF62-C73F-4133-B8A5-F96FEFE97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44A3-6068-4B91-ADBE-A74AEAB3F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688E6-7831-4F52-AF12-AE650A555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475E-48AA-4A54-A4EF-7996A7BBB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26C4-42D6-4433-A99B-BD0A35E57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DF5D-27B1-47E6-B92C-7F941E2CF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774F-724B-43B6-A86D-A8B8B7786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8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2D6A-3379-4CCF-828A-D2DDFFD18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B2A0-D146-4E07-B339-09AD1B1D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9426-B909-4774-83FF-00B24324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109C-A2F3-4101-BEA2-6C5A7A72A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AF0D-7DD3-4EFE-8C23-9DA45533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EA98-AE08-4F33-85BA-66D574AF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21FC-6189-4E18-9491-698ABC633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8BA3-C927-46F1-9608-7F8E05BB6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3B1-3E62-4334-9907-CAD61B89F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826-FAC3-42EF-9AA6-5A4DFB9B7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10D3-EF86-40C5-914F-C90ED9988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810A-CE7A-4916-B692-2B9F1C63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DDBC-2D14-496B-97FE-0B3EB0F9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9520" y="928800"/>
            <a:ext cx="3903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tra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352F-6DB2-4C6E-8353-9AFE4093C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6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8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69C1-52A6-4C64-8637-A8252F70A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0990-C72A-4480-8253-26E5B0F3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CDDA-6B08-4C57-BBA2-5B31DD1DA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37AC-1720-41C5-8294-261D7F27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23B0-34C9-402A-926B-ACE067CE2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FA01-A5B3-4DD0-BA1A-C87C3B916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63F2-AC4A-42E6-BFBB-F9EB11F3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1D92-811D-4468-9F2B-655787F83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86B-AAF2-4868-BDCC-293BC8BA1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0630-8061-4A13-9D0E-41AFE03D7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6901-7774-4AD2-BC2C-67FC149C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E465-0A18-4820-8DA8-729EECD0E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648000" y="4616280"/>
            <a:ext cx="2020320" cy="736200"/>
            <a:chOff x="648000" y="4616280"/>
            <a:chExt cx="2020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648000" y="5045400"/>
              <a:ext cx="2020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u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6880" y="4616280"/>
              <a:ext cx="105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u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6075-8325-4E07-9BD6-04E5EC4AF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F3C-406D-431F-9C2D-666003DF9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E37-4B01-45EB-BE78-8030706A4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A796-887D-4C47-9C68-C03CD31A2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5F84-5169-401A-BE91-A8F7EB63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480"/>
            <a:chOff x="3665520" y="5286240"/>
            <a:chExt cx="4780080" cy="40248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016600" y="538164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BADC-7775-4CC2-8231-696E751F4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423680" y="4519440"/>
              <a:ext cx="322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7BDA-F8FA-45E1-95A0-B50AD52E1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AB79-6E3E-4EC7-B7C8-90681F39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C1FA-4482-46A3-A0B4-55AF7EEAF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3E42-503A-4615-A23D-2549C71FD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F569-E712-4A4D-8279-F03A3A390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A239-4810-42F6-8B33-9CA53CE36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180-D1AE-48F5-8D7A-13C86E96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115-6B44-48A0-956C-68F2025DD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91E0-9B0A-4E67-8EB1-8ECDEDF77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EC6-AA02-4611-A292-5668D1B9A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8BFF-21F2-46F5-97F2-5BC49522F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A83F-0A6C-491B-8575-E1CF008C3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4D36-EDB3-4A43-B18B-41652190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D5EF-95A7-4095-8988-2DEDD1E78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937B-1AF4-409E-90D8-979B35A86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7FC-7754-4677-8FAF-FE9EFC539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8A29-5F2C-4267-AF88-CC14B6DB4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561-49A4-4C07-9640-069C100A8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8F9B-25F2-491E-9B7C-D5A418014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C3F-C6DF-4D7E-9C9A-DFC0A82B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26F-D11A-481A-A375-AEE674B2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1A18-F50E-490A-A1B6-7F332C12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A86E-6E0E-4BB5-84FF-BDC255F27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A103-6F79-401D-A7C7-3A09D2332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2112-516F-4D68-8092-DD0751DA7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BFB-74A1-4462-8BF1-386117353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1C4B-34EF-426A-82E4-7E7D5A6AF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252D-33F5-4DC0-BE95-61C78242F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4A23-3D8E-43F5-A3E3-7A3C1FE1D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5EF9-4A79-4CEE-B85F-C33FD4F4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977F-8B9C-48B7-B3DC-F44B8EFC0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into(tlm_generic_payload&amp; other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193C-5229-4543-B5F6-1B8B44A58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3139-D9AC-4088-85C6-4F482E40F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A379-D16F-438B-8E6D-EABC2760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F70A-B4AE-4955-AD46-07427454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A2EB-C88F-412A-8464-D62ACB2A9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9507-70D1-4DDE-ADEB-82E8FE774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1C6F-081B-4B94-8797-D1A4C90A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0A36-8888-4B74-A809-B3829D61F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3B4A-30F5-4910-B634-56186287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68B1-DC90-470A-8789-3EA53935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BCE-D57F-4902-9A3D-892AE7142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4C7-8D01-4830-9260-462AAA602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272A-B18B-46A1-9E49-DEC0FF504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78A4-D705-42B6-B428-27224CF85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AC5-194E-4331-B951-623CA2CD3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304920" y="1279440"/>
            <a:ext cx="8510400" cy="4157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ED4D-C51C-4CEC-91EE-C507A271A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9EBD-58DB-40D5-86B0-FFA1659C3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522D-E2CF-41D4-BAFD-EC31443C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392040" y="857160"/>
            <a:ext cx="652104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new tlm_generic_payload( mem_mgr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2E50-195E-4A1A-805F-1F30BA3A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D48-7A8E-41B9-8B98-379289DE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1A11-B823-43DF-B9F9-76227D20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6F46-6576-4887-80E7-6D93265D6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EBB6-87E0-4FFA-8FCA-6A484EBF0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B3B-2AA5-44AF-B10D-74C1EF59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6A68-D9F3-403E-B9E7-0B791B830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DFB7-F7CE-4882-9201-A2040CAF3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8273-F7F6-4414-AEE0-6E8F5CE8C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925-24F9-4620-A7FA-3DE95C8E8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D4C-7EB8-4E91-94E2-1886B48B7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C1B-6C95-4527-B196-3845C5BAD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6354-3AEA-4BBF-B9C1-625884FF4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4A24-EB19-4D8B-8882-BDA107D4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674-0B6F-4162-ABA6-C6DD71AE7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31A1-91F9-4856-9CC0-5E494D3E7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65A7-4070-43BC-9CEC-7E55D08D9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7569-B607-4DCB-9B70-93A84DF1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A4D1-9A0B-482C-80BC-B60508A69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 </cp:lastModifiedBy>
  <cp:lastPrinted>2002-03-05T00:56:29Z</cp:lastPrinted>
  <dcterms:modified xsi:type="dcterms:W3CDTF">2008-06-06T08:52:13Z</dcterms:modified>
  <cp:revision>1580</cp:revision>
  <dc:subject/>
  <dc:title>TLM WG Status 07032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10917829</vt:r8>
  </property>
  <property fmtid="{D5CDD505-2E9C-101B-9397-08002B2CF9AE}" pid="3" name="_AuthorEmail">
    <vt:lpwstr>bart@CoWare.com</vt:lpwstr>
  </property>
  <property fmtid="{D5CDD505-2E9C-101B-9397-08002B2CF9AE}" pid="4" name="_AuthorEmailDisplayName">
    <vt:lpwstr>Bart Vanthournout</vt:lpwstr>
  </property>
  <property fmtid="{D5CDD505-2E9C-101B-9397-08002B2CF9AE}" pid="5" name="_EmailSubject">
    <vt:lpwstr>TLM-2.0 Presentation ja6.ppt</vt:lpwstr>
  </property>
</Properties>
</file>