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6EDF-6580-4AB7-AD9B-7E3FCB80C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5B909-65A7-47A1-8BFA-BA6ED23EA8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6D2DB-6473-40F6-85CA-94EFEB6100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62BB6-DEA9-468D-ACE3-0D009DF7BA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3E7F9-9FF2-4DD2-BEFF-C02AA63FB7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CF8FE-EBC0-4FD0-9DE2-37EF9A569B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6B478-198C-43D0-8530-638BF1E6DE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F3AC2-2272-4771-B1F0-B368207BD5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569D7-B510-43FD-B7D1-B7289448CB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BF6A0-4AD1-47A0-8B99-DD3A25BE4D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5E890-CDB2-4EC2-8495-B9FA00DEBF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0BB73-AEC6-4ABC-93CF-B527CDFAFD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F88A5-C51E-41FB-A98B-41B436F015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87B5-0266-4CB4-B19B-8C46A1D19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59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3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6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0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4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7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 </cp:lastModifiedBy>
  <dcterms:modified xsi:type="dcterms:W3CDTF">2009-02-07T17:01:47Z</dcterms:modified>
  <cp:revision>62</cp:revision>
  <dc:subject/>
  <dc:title>TLM2</dc:title>
</cp:coreProperties>
</file>