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EAD5-2B81-4FEF-B9A9-F9FB423E1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A03F-D8AD-46A3-875C-FF74AF8C0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23F0-C880-4710-9A35-3C865D5AE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3C1B-B918-45BA-AF4B-E31627E86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77DD-0845-4A4D-8A23-4BDAE65E2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7F2AB-B762-42A4-A648-9C52259CE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FCFB5-F15F-4874-885F-EFEECA205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0A912-0ED4-437A-BEDF-C75AE14FF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4BD36-CB6C-494B-8518-23A628C81E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52A80-DB58-4099-945C-1659259594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F3BEC-0105-4D84-9678-2F7FE8FCB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C4A89-795B-4060-BDBC-599F3F767D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5BE9A-83BB-47CA-80A3-C655E3DAF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A6AFD-158B-43DD-A280-594811A32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906F-9CC6-45E9-BCE7-D2469EDA18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22AB-54D5-40C8-A18F-074C3D1B3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F329-5129-443B-B117-50423BE46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F2B0-9133-4159-A44A-CD5F9D4E1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6T16:59:39Z</dcterms:modified>
  <cp:revision>87</cp:revision>
  <dc:subject/>
  <dc:title>AT Basic System Example</dc:title>
</cp:coreProperties>
</file>