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B4F9-D436-4ABB-B59C-611935233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B038-C010-4CA6-8D5F-FF8FEAACB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819B-32D9-4CBC-8936-E1B466F72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286A-2124-419B-8BB4-C905945E3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7C51-74B6-4693-A58D-2EAFEB126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15CB5-F4F2-4ECB-B012-778AB0BA1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29A52-4507-493F-81DB-54A517166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BD3A9-C3EC-4819-8F61-EA8A355CB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C5B8-608E-4A2B-81AB-AC7752752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3C7D-4A5A-4B66-AA16-BBCFDB558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F8535-2654-40FB-9BE5-15D173047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B231A-88BE-4630-9BF3-6031495C9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A841-8DF4-4A58-BB91-1CCD922C1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BA796-1640-42A2-A3E5-E049BC968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1D05D-B31C-4710-A222-B8AEB77BD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0EDD-F29B-4C42-BE25-5F89E5B2D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6C2B-4717-4267-A74F-654A4354F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3065-EB6F-46DA-BF95-28ADC4540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9-05-04T21:38:14Z</dcterms:modified>
  <cp:revision>91</cp:revision>
  <dc:subject/>
  <dc:title>AT Basic System Example</dc:title>
</cp:coreProperties>
</file>