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49424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477563-ADEA-407B-BB72-6A5C96EC5F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F4C649-A7C3-48D6-AD17-CC21C615DCB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C48D63-9C29-4B5A-84E5-51EB6A85778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D2114C-FD28-4999-8B59-86CBED0ADB4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149F24-1C84-460D-9F75-A82A72F69A4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C987CE-FA8D-4C3A-AE30-A90FD30F777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03C584-AC45-4F56-A7ED-F0272CAB84A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B9FA2C-4F18-4E57-BAB6-B26307537A8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22D304-FFCE-4015-ACBB-85F7CAC9646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AA016E-6512-4123-A043-EFEA062AAC1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13EDDB-6617-4D72-B9AB-A7A4591E459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1AD7A1-F6A1-4C16-8E65-5E46E43BA42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2A0CA1-206A-40EF-AFAA-2A31E797120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950CBE-C80B-446F-BB8E-4F590B32D5C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6CA99-0324-4FAA-B4E7-67FD9E07C9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6C802-0898-4FB7-90F1-8E43D21070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953C7-48F0-4B77-AACB-9EA6B7F6D6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257EC-7B4F-47ED-971A-B10AF7D6FE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09B31-2C8F-4CB1-9C1F-D1457F960B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F7126-84DA-49C6-8A14-80900D14F53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8E9C4-982D-4D01-B0BF-BA5AA52BA46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C9159-1587-4F35-8C5A-E7F51CAA716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36FAD-00E5-4FAE-8DA9-1A9E3723134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74C64-5519-4AFA-8567-97316A62AD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EC125-29DC-42FB-AB19-43171E558A8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49A0B-8D2A-4073-BE9A-57D8AA54549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490ED-C549-47CF-B07D-C3319240679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2B848-930D-4C2B-9F12-B99A5867939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B5E41-75E3-4331-AAE3-EC47C36760B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AE421-77CA-4745-BB72-F7FF5A5DAD6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C9AF4-CA9F-42D7-8820-4431472177F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57026-BE8A-4276-BB96-B58D203AA4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DC5A4-043F-4636-85A9-B0A8DAAFBE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B3C09-5A3E-42B7-AA15-95734D920E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B95A2-E85A-4E33-8247-CB6D70F587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820D8-FD7C-4C8E-B2BE-ADECCC5276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27572-F618-4031-A8DF-F66E6BFB3D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87194-6501-4CE9-9A53-2BD27613FE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1491DB-9EE0-4F4F-8C56-C968D0CF067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B0E1A3BF-7709-47E8-BEB6-F192D42D35D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1"/>
          <p:cNvSpPr/>
          <p:nvPr/>
        </p:nvSpPr>
        <p:spPr>
          <a:xfrm>
            <a:off x="380880" y="3067200"/>
            <a:ext cx="8331480" cy="63972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itstream Charter"/>
              </a:rPr>
              <a:t>Hierarchical Value Update Examp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AutoShape 2"/>
          <p:cNvSpPr/>
          <p:nvPr/>
        </p:nvSpPr>
        <p:spPr>
          <a:xfrm>
            <a:off x="3276720" y="4572000"/>
            <a:ext cx="3886200" cy="120024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itstream Charter"/>
              </a:rPr>
              <a:t>Lei Liang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itstream Charter"/>
              </a:rPr>
              <a:t>Ericsson AB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itstream Charter"/>
              </a:rPr>
              <a:t>December, 201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AutoShape 3"/>
          <p:cNvSpPr/>
          <p:nvPr/>
        </p:nvSpPr>
        <p:spPr>
          <a:xfrm>
            <a:off x="2895480" y="3809880"/>
            <a:ext cx="3591000" cy="50652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rmAutofit fontScale="9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itstream Charter"/>
              </a:rPr>
              <a:t>SystemC CCI W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AutoShape 1"/>
          <p:cNvSpPr/>
          <p:nvPr/>
        </p:nvSpPr>
        <p:spPr>
          <a:xfrm>
            <a:off x="236520" y="220680"/>
            <a:ext cx="86868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ierarchical Value Updat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Configurator perspective: show how to update all parameters which matches to a given name pattern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AutoShape 1"/>
          <p:cNvSpPr/>
          <p:nvPr/>
        </p:nvSpPr>
        <p:spPr>
          <a:xfrm>
            <a:off x="236520" y="144360"/>
            <a:ext cx="8686800" cy="617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Rectangle 2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angle 1"/>
          <p:cNvSpPr/>
          <p:nvPr/>
        </p:nvSpPr>
        <p:spPr>
          <a:xfrm>
            <a:off x="838080" y="1143000"/>
            <a:ext cx="7620120" cy="457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c_ma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1447920" y="1752480"/>
            <a:ext cx="1981080" cy="358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m_ip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102888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1" marL="1028880" indent="-28584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Rectangle 16"/>
          <p:cNvSpPr/>
          <p:nvPr/>
        </p:nvSpPr>
        <p:spPr>
          <a:xfrm>
            <a:off x="5943600" y="1752480"/>
            <a:ext cx="1905120" cy="358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fg_ip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arget of this module is to update all parameters whose name matches the pattern “log_level” and in this example they ar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_ip.log_level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_ip.sub_ip.log_level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Rectangle 17"/>
          <p:cNvSpPr/>
          <p:nvPr/>
        </p:nvSpPr>
        <p:spPr>
          <a:xfrm>
            <a:off x="1752480" y="3048120"/>
            <a:ext cx="1600200" cy="2209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ub_ip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Folded Corner 41"/>
          <p:cNvSpPr/>
          <p:nvPr/>
        </p:nvSpPr>
        <p:spPr>
          <a:xfrm>
            <a:off x="1917720" y="2171880"/>
            <a:ext cx="144792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log_level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Folded Corner 41"/>
          <p:cNvSpPr/>
          <p:nvPr/>
        </p:nvSpPr>
        <p:spPr>
          <a:xfrm>
            <a:off x="1917720" y="2438280"/>
            <a:ext cx="144792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int_param1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Folded Corner 41"/>
          <p:cNvSpPr/>
          <p:nvPr/>
        </p:nvSpPr>
        <p:spPr>
          <a:xfrm>
            <a:off x="1917720" y="2705040"/>
            <a:ext cx="144792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int_param2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Right Brace 5"/>
          <p:cNvSpPr/>
          <p:nvPr/>
        </p:nvSpPr>
        <p:spPr>
          <a:xfrm>
            <a:off x="3365640" y="2192400"/>
            <a:ext cx="291960" cy="723960"/>
          </a:xfrm>
          <a:custGeom>
            <a:avLst/>
            <a:gdLst>
              <a:gd name="textAreaLeft" fmla="*/ 0 w 291960"/>
              <a:gd name="textAreaRight" fmla="*/ 105480 w 291960"/>
              <a:gd name="textAreaTop" fmla="*/ 7560 h 723960"/>
              <a:gd name="textAreaBottom" fmla="*/ 716400 h 72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63"/>
                  <a:pt x="10800" y="726"/>
                </a:cubicBezTo>
                <a:lnTo>
                  <a:pt x="10800" y="10074"/>
                </a:lnTo>
                <a:cubicBezTo>
                  <a:pt x="10800" y="10437"/>
                  <a:pt x="16200" y="10800"/>
                  <a:pt x="21600" y="10800"/>
                </a:cubicBezTo>
                <a:cubicBezTo>
                  <a:pt x="16200" y="10800"/>
                  <a:pt x="10800" y="11163"/>
                  <a:pt x="10800" y="11526"/>
                </a:cubicBezTo>
                <a:lnTo>
                  <a:pt x="10800" y="20874"/>
                </a:lnTo>
                <a:cubicBezTo>
                  <a:pt x="10800" y="21237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TextBox 6"/>
          <p:cNvSpPr/>
          <p:nvPr/>
        </p:nvSpPr>
        <p:spPr>
          <a:xfrm>
            <a:off x="3563640" y="2414520"/>
            <a:ext cx="188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parameters in sim_ip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Folded Corner 41"/>
          <p:cNvSpPr/>
          <p:nvPr/>
        </p:nvSpPr>
        <p:spPr>
          <a:xfrm>
            <a:off x="1854360" y="4441680"/>
            <a:ext cx="144756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log_level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Folded Corner 41"/>
          <p:cNvSpPr/>
          <p:nvPr/>
        </p:nvSpPr>
        <p:spPr>
          <a:xfrm>
            <a:off x="1854360" y="4708440"/>
            <a:ext cx="144756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int_param1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Folded Corner 41"/>
          <p:cNvSpPr/>
          <p:nvPr/>
        </p:nvSpPr>
        <p:spPr>
          <a:xfrm>
            <a:off x="1854360" y="4975200"/>
            <a:ext cx="144756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int_param2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Right Brace 33"/>
          <p:cNvSpPr/>
          <p:nvPr/>
        </p:nvSpPr>
        <p:spPr>
          <a:xfrm>
            <a:off x="3301920" y="4462560"/>
            <a:ext cx="292320" cy="723960"/>
          </a:xfrm>
          <a:custGeom>
            <a:avLst/>
            <a:gdLst>
              <a:gd name="textAreaLeft" fmla="*/ 0 w 292320"/>
              <a:gd name="textAreaRight" fmla="*/ 105480 w 292320"/>
              <a:gd name="textAreaTop" fmla="*/ 7560 h 723960"/>
              <a:gd name="textAreaBottom" fmla="*/ 716400 h 72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63"/>
                  <a:pt x="10800" y="726"/>
                </a:cubicBezTo>
                <a:lnTo>
                  <a:pt x="10800" y="10074"/>
                </a:lnTo>
                <a:cubicBezTo>
                  <a:pt x="10800" y="10437"/>
                  <a:pt x="16200" y="10800"/>
                  <a:pt x="21600" y="10800"/>
                </a:cubicBezTo>
                <a:cubicBezTo>
                  <a:pt x="16200" y="10800"/>
                  <a:pt x="10800" y="11163"/>
                  <a:pt x="10800" y="11526"/>
                </a:cubicBezTo>
                <a:lnTo>
                  <a:pt x="10800" y="20874"/>
                </a:lnTo>
                <a:cubicBezTo>
                  <a:pt x="10800" y="21237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TextBox 34"/>
          <p:cNvSpPr/>
          <p:nvPr/>
        </p:nvSpPr>
        <p:spPr>
          <a:xfrm>
            <a:off x="3498840" y="4684680"/>
            <a:ext cx="189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parameters in sub_ip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AutoShape 1"/>
          <p:cNvSpPr/>
          <p:nvPr/>
        </p:nvSpPr>
        <p:spPr>
          <a:xfrm>
            <a:off x="236520" y="144360"/>
            <a:ext cx="8686800" cy="617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 (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m_ip: simple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fg_ip: config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03" name="Straight Arrow Connector 16"/>
          <p:cNvCxnSpPr>
            <a:stCxn id="201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4" name="Straight Arrow Connector 17"/>
          <p:cNvCxnSpPr>
            <a:stCxn id="202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05" name="TextBox 27"/>
          <p:cNvSpPr/>
          <p:nvPr/>
        </p:nvSpPr>
        <p:spPr>
          <a:xfrm>
            <a:off x="384840" y="19051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Folded Corner 43"/>
          <p:cNvSpPr/>
          <p:nvPr/>
        </p:nvSpPr>
        <p:spPr>
          <a:xfrm>
            <a:off x="5456160" y="2112840"/>
            <a:ext cx="2468520" cy="3049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m_broker.get_param_handles(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Speech Bubble: Rectangle with Corners Rounded 10"/>
          <p:cNvSpPr/>
          <p:nvPr/>
        </p:nvSpPr>
        <p:spPr>
          <a:xfrm>
            <a:off x="6527880" y="2816280"/>
            <a:ext cx="2539800" cy="1450800"/>
          </a:xfrm>
          <a:prstGeom prst="wedgeRoundRectCallout">
            <a:avLst>
              <a:gd name="adj1" fmla="val -42555"/>
              <a:gd name="adj2" fmla="val -75879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hen printed the value for all parameters: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log_level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int_param1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int_param2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sub_ip.log_level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sub_ip.int_param1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sub_ip.int_param2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AutoShape 1"/>
          <p:cNvSpPr/>
          <p:nvPr/>
        </p:nvSpPr>
        <p:spPr>
          <a:xfrm>
            <a:off x="236520" y="144360"/>
            <a:ext cx="8686800" cy="617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 (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m_ip: simple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fg_ip: config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11" name="Straight Arrow Connector 16"/>
          <p:cNvCxnSpPr>
            <a:stCxn id="209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2" name="Straight Arrow Connector 17"/>
          <p:cNvCxnSpPr>
            <a:stCxn id="210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3" name="TextBox 27"/>
          <p:cNvSpPr/>
          <p:nvPr/>
        </p:nvSpPr>
        <p:spPr>
          <a:xfrm>
            <a:off x="384840" y="19051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Folded Corner 43"/>
          <p:cNvSpPr/>
          <p:nvPr/>
        </p:nvSpPr>
        <p:spPr>
          <a:xfrm>
            <a:off x="5105520" y="2112840"/>
            <a:ext cx="3276360" cy="4780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cci::cci_param_filter_iterator log_level_pfi =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broker.get_param_handles(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pred_it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Speech Bubble: Rectangle with Corners Rounded 10"/>
          <p:cNvSpPr/>
          <p:nvPr/>
        </p:nvSpPr>
        <p:spPr>
          <a:xfrm>
            <a:off x="6508800" y="2895480"/>
            <a:ext cx="2539800" cy="1154160"/>
          </a:xfrm>
          <a:prstGeom prst="wedgeRoundRectCallout">
            <a:avLst>
              <a:gd name="adj1" fmla="val -42555"/>
              <a:gd name="adj2" fmla="val -75879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Use predicate function to get all parameter which match the name pattern “log_level” and they are: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log_level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sub_ip.log_level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AutoShape 1"/>
          <p:cNvSpPr/>
          <p:nvPr/>
        </p:nvSpPr>
        <p:spPr>
          <a:xfrm>
            <a:off x="236520" y="144360"/>
            <a:ext cx="8686800" cy="617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 (3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m_ip: simple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fg_ip: config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19" name="Straight Arrow Connector 16"/>
          <p:cNvCxnSpPr>
            <a:stCxn id="217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0" name="Straight Arrow Connector 17"/>
          <p:cNvCxnSpPr>
            <a:stCxn id="218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1" name="TextBox 27"/>
          <p:cNvSpPr/>
          <p:nvPr/>
        </p:nvSpPr>
        <p:spPr>
          <a:xfrm>
            <a:off x="384840" y="19051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Folded Corner 43"/>
          <p:cNvSpPr/>
          <p:nvPr/>
        </p:nvSpPr>
        <p:spPr>
          <a:xfrm>
            <a:off x="5257800" y="2289240"/>
            <a:ext cx="3276720" cy="3268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(*log_level_pfi).set_cci_value(target_value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Speech Bubble: Rectangle with Corners Rounded 12"/>
          <p:cNvSpPr/>
          <p:nvPr/>
        </p:nvSpPr>
        <p:spPr>
          <a:xfrm>
            <a:off x="6599160" y="3052800"/>
            <a:ext cx="2324160" cy="692280"/>
          </a:xfrm>
          <a:prstGeom prst="wedgeRoundRectCallout">
            <a:avLst>
              <a:gd name="adj1" fmla="val -37013"/>
              <a:gd name="adj2" fmla="val -10431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Use the “cci::cci_param_filter_iterator” iterator to update parameter value to target_value(500)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Folded Corner 43"/>
          <p:cNvSpPr/>
          <p:nvPr/>
        </p:nvSpPr>
        <p:spPr>
          <a:xfrm>
            <a:off x="5257800" y="4002120"/>
            <a:ext cx="3276720" cy="4348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(*log_level_pfi).get_name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(*log_level_pfi).get_cci_value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Speech Bubble: Rectangle with Corners Rounded 14"/>
          <p:cNvSpPr/>
          <p:nvPr/>
        </p:nvSpPr>
        <p:spPr>
          <a:xfrm>
            <a:off x="6599160" y="4905360"/>
            <a:ext cx="2324160" cy="917640"/>
          </a:xfrm>
          <a:prstGeom prst="wedgeRoundRectCallout">
            <a:avLst>
              <a:gd name="adj1" fmla="val -37013"/>
              <a:gd name="adj2" fmla="val -95111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Use the “cci::cci_param_filter_iterator” iterator to print parameter value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log_level=50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sub_ip.log_level=50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(ex23_Hierarchical_Value_Update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80880" y="1514160"/>
            <a:ext cx="868680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Begin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0 s, execute: List all parameters inside simple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int_param1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int_param2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log_level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sub_ip.int_param1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sub_ip.int_param2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sub_ip.log_level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0 s, execute: List all 'log_level' parameter inside simple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log_level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sub_ip.log_level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0 s, execute: Update all 'log_Level' parameters' value to 5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0 s, execute: List all 'log_Level' parameter inside simple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log_level = 5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sub_ip.log_level = 5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7T16:03:05Z</dcterms:modified>
  <cp:revision>85</cp:revision>
  <dc:subject/>
  <dc:title>ex20_Tracing_Parameter_Activi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16:03:05Z</vt:lpwstr>
  </property>
  <property fmtid="{D5CDD505-2E9C-101B-9397-08002B2CF9AE}" pid="5" name="TitusGUID">
    <vt:lpwstr>522d689a-30a7-4b0c-9d2d-5977e3992383</vt:lpwstr>
  </property>
</Properties>
</file>