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C56692-3775-483D-9026-6F7CFA3CC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81B4CE-0918-42FA-851B-7B483723B46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A8E42E-F2DA-408F-B046-EF47D796623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ADFAEE-1314-422B-A5AC-E312746C663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ADEE94-1A0C-43B4-9374-D79AFF536D1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2873A6-3041-4825-82E9-F09544C5DFA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498AE5-EC11-4611-98C5-3E4A4D67EEB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DF2A20-3833-4E23-B0AF-40DC15D3535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2B54D2-6F20-4C2A-8E90-0BF8B9AE5C1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9B8701-2CAF-4662-9828-2A3EBCC3355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B72C99-7A41-4101-B919-B3F5232441B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1A0E75-8EA7-427B-88E4-8FFB35EF879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91B417-AEAB-4483-9BC2-469F7469854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35C4D2-4555-40CE-A65B-09BBF95E16B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2CF4A9-3B39-4CCF-8CE9-F97EDCEDC22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12CE29-BAAB-48AF-B283-818269AC83E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57D539-1B40-4CE4-83F3-BEC725C2FA1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C6003A-84F2-4FE4-9170-A3BF3A91C3B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BB9481-DA9C-46F7-A7E3-9E3272853F7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E94629-F5EC-422D-B697-35B8E60D24BC}"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D05EAF-0C45-4FDB-BBAD-5C6A8B6BD67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5DB38D-8071-41F4-9237-11FC44728C9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A3177A-5026-40BB-9547-77BF01C021C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A8EBD6-E58A-4794-99D6-81310DA167D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E6B74E-2D58-4D7C-9A92-990CA6A3A0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167E55BB-1281-4C21-9A43-551D5BCCB6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4B311FE4-AF21-44E4-B97E-59611D8E69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AC5C7FB2-2440-4482-8C9E-28B82466B8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A5CE255-9D49-441C-B256-E344E5DE48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CFA185-7AD6-4812-9446-E2B6A7397C1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290CFE0E-87E6-4852-B325-6F900FD4A08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B8DE5D21-A5D7-4BBD-9B41-79F8E788EF5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3C8BD019-CB43-4636-938D-01D99C3C870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4FD97F2F-848E-4F02-BC4F-C5CA40904E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D4D0728-AC9D-413D-ACF2-0B3648A75E0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4A0106C0-C8F0-4B5B-94B3-C38BA744E3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BC97F54A-755B-4791-A25F-26A9134BE46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622DE1D9-79ED-4564-989D-4CB7DA96BBF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B8742B15-4D75-4EB2-8EB5-DA99207D30B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2B4EA654-6478-4285-8324-220437F3626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122C98BA-3DCD-4662-B7F5-CA66A5B80CF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47B7E703-2773-4E4B-A85A-84FE4E8B25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E349437E-CC68-4FE3-91D3-012CC2BEB3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653AE916-685B-47AA-A47A-48F85DFB10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8CBF667-29E9-4289-82CF-75B198332D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F3BF0315-6913-45BA-A2E2-B32F21C87B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9E8E574F-52AD-4FD0-94BC-A1D3EC3522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1611EA8E-EFCC-4EE7-9D5C-34642640E5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4D34C2-C94A-40A3-8080-FA2B20B4094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B01EB28-8AA4-4791-88D3-867AC1C7171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2004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VisualMarkings=</cp:keywords>
  <dc:language>en-US</dc:language>
  <cp:lastModifiedBy>Wieman, Trevor</cp:lastModifiedBy>
  <cp:lastPrinted>2017-02-05T20:04:16Z</cp:lastPrinted>
  <dcterms:modified xsi:type="dcterms:W3CDTF">2017-12-15T21:23:36Z</dcterms:modified>
  <cp:revision>13</cp:revision>
  <dc:subject/>
  <dc:title>ex10_Shared_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21:23:36Z</vt:lpwstr>
  </property>
  <property fmtid="{D5CDD505-2E9C-101B-9397-08002B2CF9AE}" pid="5" name="TitusGUID">
    <vt:lpwstr>d85ea855-1e73-4b19-b74a-c6f31e4325b8</vt:lpwstr>
  </property>
</Properties>
</file>