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0" y="0"/>
            <a:ext cx="6669000" cy="992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Freeform 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Freeform 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Freeform 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Freeform 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Freeform 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Freeform 1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Freeform 1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Freeform 1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Freeform 1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Freeform 1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Freeform 1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Freeform 1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Freeform 1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reeform 1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Freeform 2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Freeform 2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Freeform 2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Freeform 2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Freeform 2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Freeform 2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Freeform 2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Freeform 2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Freeform 2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Freeform 3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Freeform 3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Freeform 3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Freeform 3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Freeform 34"/>
          <p:cNvSpPr/>
          <p:nvPr/>
        </p:nvSpPr>
        <p:spPr>
          <a:xfrm>
            <a:off x="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Freeform 35"/>
          <p:cNvSpPr/>
          <p:nvPr/>
        </p:nvSpPr>
        <p:spPr>
          <a:xfrm>
            <a:off x="377820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65080" y="744120"/>
            <a:ext cx="4889520" cy="36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6720" y="4716000"/>
            <a:ext cx="528624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Freeform 38"/>
          <p:cNvSpPr/>
          <p:nvPr/>
        </p:nvSpPr>
        <p:spPr>
          <a:xfrm>
            <a:off x="0" y="942984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2"/>
          </p:nvPr>
        </p:nvSpPr>
        <p:spPr>
          <a:xfrm>
            <a:off x="377784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0135D8-7C98-496B-8368-B98BE2B223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DA6652-CD6E-45CE-B3EE-8933FE82C9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AutoShape 1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FFC6DD-46B5-4783-AFAE-D481799F6AD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7642ED-8D21-49C4-8408-25503C602E5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09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9075CC-C9E3-45AD-B218-220732F7850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B7F00D-ED2D-4C11-B56A-8BD4B7A37E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13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32B8E7-1E0D-4944-99C2-0102B123445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D50FDE-8BB8-467B-837E-1AC5173B46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2FED39-E841-43DB-815E-09AF7C751B4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6CF680-B485-4912-84BC-ABF5B7CEBC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21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E44FB3-F14B-4F77-A248-6C8781E0BCD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B79834-6986-472A-B8A2-212A60F098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860400" y="744480"/>
            <a:ext cx="4915080" cy="36864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1896ED-13DF-4B22-9E32-55E2EEE498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860400" y="744480"/>
            <a:ext cx="4915080" cy="36864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865080" y="74448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66720" y="4716000"/>
            <a:ext cx="528624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580AFA-C6BD-4441-8AB5-15354E96F71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A7DF4-A57E-4604-B882-1FB3B6E29D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4328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637AF-2A67-4926-807B-1916759172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564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509D2-D7BD-4877-BFC0-6265CB18E9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048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080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048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080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0D72C-F436-4AB0-A6D0-4FE612B7E5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3604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7F287-2286-4802-9386-B3E1136C9A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0564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4328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0564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0048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2080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0048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2080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6F48F-9C81-45FA-82B1-02E4589404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69B45-491F-47E0-90AB-843536F055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01D97-238C-472C-B9CF-889B527AA5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3604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68DED-803A-484C-A740-7C1B985BA0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F61CF-1F03-4351-8B7E-11D3208D71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564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16025-4DBB-4C5F-BD1A-CB845B7CD9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F7914-111B-41AC-BD8D-B8A73855D5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287760"/>
            <a:ext cx="116856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09596D-9E1E-402A-8C9C-FDB3201FFB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2"/>
          <p:cNvSpPr/>
          <p:nvPr/>
        </p:nvSpPr>
        <p:spPr>
          <a:xfrm>
            <a:off x="3352680" y="5029200"/>
            <a:ext cx="4343400" cy="120024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y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Hierarchical Override of Parameter Values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ierarchical Override of Parameter Valu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236520" y="1285920"/>
            <a:ext cx="87868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bjectives of the present example is to demonstrate the following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-to-Model Configuration (UseCase 12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ault and Preset Values (UseCase 3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-based Parameter Access (Requirement 1.3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1"/>
          <p:cNvSpPr/>
          <p:nvPr/>
        </p:nvSpPr>
        <p:spPr>
          <a:xfrm>
            <a:off x="1371600" y="108000"/>
            <a:ext cx="6172200" cy="57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egend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4680" y="851040"/>
            <a:ext cx="6102360" cy="43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7" name="AutoShape 3"/>
          <p:cNvSpPr/>
          <p:nvPr/>
        </p:nvSpPr>
        <p:spPr>
          <a:xfrm>
            <a:off x="1219320" y="5445000"/>
            <a:ext cx="6553080" cy="422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8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This legend diagram doesn't apply to the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Expected Output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section!!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1"/>
          <p:cNvSpPr/>
          <p:nvPr/>
        </p:nvSpPr>
        <p:spPr>
          <a:xfrm>
            <a:off x="157320" y="179280"/>
            <a:ext cx="8915400" cy="5943600"/>
          </a:xfrm>
          <a:custGeom>
            <a:avLst/>
            <a:gdLst>
              <a:gd name="textAreaLeft" fmla="*/ 360 w 8915400"/>
              <a:gd name="textAreaRight" fmla="*/ 8915040 w 8915400"/>
              <a:gd name="textAreaTop" fmla="*/ 360 h 5943600"/>
              <a:gd name="textAreaBottom" fmla="*/ 5943240 h 5943600"/>
            </a:gdLst>
            <a:ahLst/>
            <a:rect l="textAreaLeft" t="textAreaTop" r="textAreaRight" b="textAreaBottom"/>
            <a:pathLst>
              <a:path w="8915400" h="5943600">
                <a:moveTo>
                  <a:pt x="1376" y="0"/>
                </a:moveTo>
                <a:lnTo>
                  <a:pt x="1375" y="0"/>
                </a:lnTo>
                <a:cubicBezTo>
                  <a:pt x="616" y="0"/>
                  <a:pt x="0" y="616"/>
                  <a:pt x="0" y="1375"/>
                </a:cubicBezTo>
                <a:lnTo>
                  <a:pt x="0" y="5942224"/>
                </a:lnTo>
                <a:cubicBezTo>
                  <a:pt x="0" y="5942983"/>
                  <a:pt x="616" y="5943599"/>
                  <a:pt x="1375" y="5943600"/>
                </a:cubicBezTo>
                <a:lnTo>
                  <a:pt x="8914024" y="5943600"/>
                </a:lnTo>
                <a:cubicBezTo>
                  <a:pt x="8914783" y="5943599"/>
                  <a:pt x="8915400" y="5942983"/>
                  <a:pt x="8915400" y="5942224"/>
                </a:cubicBezTo>
                <a:lnTo>
                  <a:pt x="8915400" y="1376"/>
                </a:lnTo>
                <a:cubicBezTo>
                  <a:pt x="8915400" y="616"/>
                  <a:pt x="8914783" y="0"/>
                  <a:pt x="8914024" y="0"/>
                </a:cubicBezTo>
                <a:lnTo>
                  <a:pt x="1376" y="0"/>
                </a:lnTo>
                <a:close/>
              </a:path>
            </a:pathLst>
          </a:custGeom>
          <a:solidFill>
            <a:srgbClr val="cc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2"/>
          <p:cNvSpPr/>
          <p:nvPr/>
        </p:nvSpPr>
        <p:spPr>
          <a:xfrm>
            <a:off x="7581960" y="2575080"/>
            <a:ext cx="1295280" cy="412560"/>
          </a:xfrm>
          <a:prstGeom prst="pie">
            <a:avLst/>
          </a:prstGeom>
          <a:solidFill>
            <a:srgbClr val="ff3366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ave#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Freeform 3"/>
          <p:cNvSpPr/>
          <p:nvPr/>
        </p:nvSpPr>
        <p:spPr>
          <a:xfrm>
            <a:off x="8204040" y="2222640"/>
            <a:ext cx="11160" cy="284040"/>
          </a:xfrm>
          <a:custGeom>
            <a:avLst/>
            <a:gdLst>
              <a:gd name="textAreaLeft" fmla="*/ 0 w 11160"/>
              <a:gd name="textAreaRight" fmla="*/ 11160 w 1116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11164" h="284040">
                <a:moveTo>
                  <a:pt x="0" y="0"/>
                </a:moveTo>
                <a:lnTo>
                  <a:pt x="11164" y="284040"/>
                </a:lnTo>
              </a:path>
            </a:pathLst>
          </a:custGeom>
          <a:noFill/>
          <a:ln w="255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3079800" y="843120"/>
            <a:ext cx="3549600" cy="2917800"/>
          </a:xfrm>
          <a:prstGeom prst="pie">
            <a:avLst/>
          </a:prstGeom>
          <a:solidFill>
            <a:srgbClr val="ff99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806400" y="1344600"/>
            <a:ext cx="1461960" cy="407880"/>
          </a:xfrm>
          <a:prstGeom prst="pie">
            <a:avLst/>
          </a:prstGeom>
          <a:solidFill>
            <a:srgbClr val="00ff00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ster#1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806400" y="2208240"/>
            <a:ext cx="1461960" cy="407880"/>
          </a:xfrm>
          <a:prstGeom prst="pie">
            <a:avLst/>
          </a:prstGeom>
          <a:solidFill>
            <a:srgbClr val="00ff00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ster#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Freeform 7"/>
          <p:cNvSpPr/>
          <p:nvPr/>
        </p:nvSpPr>
        <p:spPr>
          <a:xfrm flipH="1">
            <a:off x="1790640" y="1760400"/>
            <a:ext cx="46080" cy="411480"/>
          </a:xfrm>
          <a:custGeom>
            <a:avLst/>
            <a:gdLst>
              <a:gd name="textAreaLeft" fmla="*/ 360 w 46080"/>
              <a:gd name="textAreaRight" fmla="*/ 46800 w 46080"/>
              <a:gd name="textAreaTop" fmla="*/ 0 h 411480"/>
              <a:gd name="textAreaBottom" fmla="*/ 411840 h 411480"/>
            </a:gdLst>
            <a:ahLst/>
            <a:rect l="textAreaLeft" t="textAreaTop" r="textAreaRight" b="textAreaBottom"/>
            <a:pathLst>
              <a:path w="44641" h="411123">
                <a:moveTo>
                  <a:pt x="0" y="0"/>
                </a:moveTo>
                <a:lnTo>
                  <a:pt x="44641" y="411123"/>
                </a:lnTo>
              </a:path>
            </a:pathLst>
          </a:custGeom>
          <a:noFill/>
          <a:ln w="255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8"/>
          <p:cNvSpPr/>
          <p:nvPr/>
        </p:nvSpPr>
        <p:spPr>
          <a:xfrm>
            <a:off x="565200" y="420840"/>
            <a:ext cx="1828800" cy="533160"/>
          </a:xfrm>
          <a:prstGeom prst="pie">
            <a:avLst/>
          </a:prstGeom>
          <a:noFill/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_Modul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6981840" y="3279600"/>
            <a:ext cx="2021040" cy="608040"/>
          </a:xfrm>
          <a:prstGeom prst="pie">
            <a:avLst/>
          </a:prstGeom>
          <a:solidFill>
            <a:srgbClr val="ff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 ID (eo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 Base Addr (eo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 Size (mutab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0"/>
          <p:cNvSpPr/>
          <p:nvPr/>
        </p:nvSpPr>
        <p:spPr>
          <a:xfrm>
            <a:off x="2971800" y="4495680"/>
            <a:ext cx="2743200" cy="152424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_main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set preset valu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OP MODU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max. addressable limit for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OUTER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nd fills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ROUTER TABLE contents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lave_1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e start of construction of any of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s via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Name-based Look-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Up Acces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1"/>
          <p:cNvSpPr/>
          <p:nvPr/>
        </p:nvSpPr>
        <p:spPr>
          <a:xfrm>
            <a:off x="2971800" y="247680"/>
            <a:ext cx="5657760" cy="317520"/>
          </a:xfrm>
          <a:prstGeom prst="pie">
            <a:avLst/>
          </a:prstGeom>
          <a:solidFill>
            <a:srgbClr val="6d18c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itstream Charter"/>
              </a:rPr>
              <a:t>Binding and Communication in accordance to TLM2.0 standard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4"/>
          <p:cNvSpPr/>
          <p:nvPr/>
        </p:nvSpPr>
        <p:spPr>
          <a:xfrm>
            <a:off x="152280" y="4043520"/>
            <a:ext cx="2743200" cy="1973160"/>
          </a:xfrm>
          <a:prstGeom prst="pie">
            <a:avLst/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OP MODUL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in turn initialize few of the parameters of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OUTER and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i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OUTER TAB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ntents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OP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ODULE sha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 the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odel Hierarc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 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ASTER(S) &amp; SLAVE(S)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OUTER, overri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eir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efault valu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t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reset valu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hereby demonstrating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odel-to-Model Configuration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AutoShape 15"/>
          <p:cNvSpPr/>
          <p:nvPr/>
        </p:nvSpPr>
        <p:spPr>
          <a:xfrm>
            <a:off x="7581960" y="1747800"/>
            <a:ext cx="1295280" cy="412920"/>
          </a:xfrm>
          <a:prstGeom prst="pie">
            <a:avLst/>
          </a:prstGeom>
          <a:solidFill>
            <a:srgbClr val="ff3366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ave#2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AutoShape 16"/>
          <p:cNvSpPr/>
          <p:nvPr/>
        </p:nvSpPr>
        <p:spPr>
          <a:xfrm>
            <a:off x="7581960" y="1100160"/>
            <a:ext cx="1295280" cy="411120"/>
          </a:xfrm>
          <a:prstGeom prst="pie">
            <a:avLst/>
          </a:prstGeom>
          <a:solidFill>
            <a:srgbClr val="ff3366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ave#1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AutoShape 17"/>
          <p:cNvSpPr/>
          <p:nvPr/>
        </p:nvSpPr>
        <p:spPr>
          <a:xfrm>
            <a:off x="299880" y="3276720"/>
            <a:ext cx="2595600" cy="460080"/>
          </a:xfrm>
          <a:prstGeom prst="pie">
            <a:avLst/>
          </a:prstGeom>
          <a:solidFill>
            <a:srgbClr val="cccccc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Master(s) (immutab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Slave(s) (immutab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AutoShape 18"/>
          <p:cNvSpPr/>
          <p:nvPr/>
        </p:nvSpPr>
        <p:spPr>
          <a:xfrm>
            <a:off x="4083120" y="1092240"/>
            <a:ext cx="1461960" cy="407880"/>
          </a:xfrm>
          <a:prstGeom prst="pie">
            <a:avLst/>
          </a:prstGeom>
          <a:solidFill>
            <a:srgbClr val="ff9966">
              <a:alpha val="50000"/>
            </a:srgbClr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19"/>
          <p:cNvSpPr/>
          <p:nvPr/>
        </p:nvSpPr>
        <p:spPr>
          <a:xfrm>
            <a:off x="2182680" y="1401840"/>
            <a:ext cx="1067040" cy="304560"/>
          </a:xfrm>
          <a:custGeom>
            <a:avLst/>
            <a:gdLst>
              <a:gd name="textAreaLeft" fmla="*/ 75960 w 1067040"/>
              <a:gd name="textAreaRight" fmla="*/ 991080 w 10670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0"/>
          <p:cNvSpPr/>
          <p:nvPr/>
        </p:nvSpPr>
        <p:spPr>
          <a:xfrm>
            <a:off x="2182680" y="2301840"/>
            <a:ext cx="1067040" cy="304920"/>
          </a:xfrm>
          <a:custGeom>
            <a:avLst/>
            <a:gdLst>
              <a:gd name="textAreaLeft" fmla="*/ 75960 w 1067040"/>
              <a:gd name="textAreaRight" fmla="*/ 991080 w 106704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1"/>
          <p:cNvSpPr/>
          <p:nvPr/>
        </p:nvSpPr>
        <p:spPr>
          <a:xfrm>
            <a:off x="6539040" y="1150920"/>
            <a:ext cx="1066680" cy="304920"/>
          </a:xfrm>
          <a:custGeom>
            <a:avLst/>
            <a:gdLst>
              <a:gd name="textAreaLeft" fmla="*/ 75960 w 1066680"/>
              <a:gd name="textAreaRight" fmla="*/ 990720 w 10666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2"/>
          <p:cNvSpPr/>
          <p:nvPr/>
        </p:nvSpPr>
        <p:spPr>
          <a:xfrm>
            <a:off x="6539040" y="1797120"/>
            <a:ext cx="1066680" cy="304560"/>
          </a:xfrm>
          <a:custGeom>
            <a:avLst/>
            <a:gdLst>
              <a:gd name="textAreaLeft" fmla="*/ 75960 w 1066680"/>
              <a:gd name="textAreaRight" fmla="*/ 990720 w 10666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9" name="Picture 23" descr=""/>
          <p:cNvPicPr/>
          <p:nvPr/>
        </p:nvPicPr>
        <p:blipFill>
          <a:blip r:embed="rId1"/>
          <a:stretch/>
        </p:blipFill>
        <p:spPr>
          <a:xfrm>
            <a:off x="3429000" y="1600200"/>
            <a:ext cx="2948040" cy="1860480"/>
          </a:xfrm>
          <a:prstGeom prst="rect">
            <a:avLst/>
          </a:prstGeom>
          <a:ln w="0">
            <a:noFill/>
          </a:ln>
        </p:spPr>
      </p:pic>
      <p:sp>
        <p:nvSpPr>
          <p:cNvPr id="150" name="Freeform 24"/>
          <p:cNvSpPr/>
          <p:nvPr/>
        </p:nvSpPr>
        <p:spPr>
          <a:xfrm>
            <a:off x="6575400" y="2616120"/>
            <a:ext cx="1066680" cy="304920"/>
          </a:xfrm>
          <a:custGeom>
            <a:avLst/>
            <a:gdLst>
              <a:gd name="textAreaLeft" fmla="*/ 75960 w 1066680"/>
              <a:gd name="textAreaRight" fmla="*/ 990720 w 10666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AutoShape 25"/>
          <p:cNvSpPr/>
          <p:nvPr/>
        </p:nvSpPr>
        <p:spPr>
          <a:xfrm>
            <a:off x="5867280" y="4724280"/>
            <a:ext cx="3159360" cy="1392480"/>
          </a:xfrm>
          <a:prstGeom prst="pie">
            <a:avLst/>
          </a:prstGeom>
          <a:solidFill>
            <a:srgbClr val="f796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OUTER TABLE CONTENT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d#1 :  Slave#_Index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eld#2 :  Slave#_Start_Addrt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eld#3 :  Slave#_End_addr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ield contents for Slave_1 have bee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ed at sc_main() and rest others with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_module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AutoShape 26"/>
          <p:cNvSpPr/>
          <p:nvPr/>
        </p:nvSpPr>
        <p:spPr>
          <a:xfrm>
            <a:off x="6445080" y="3914640"/>
            <a:ext cx="2546640" cy="814680"/>
          </a:xfrm>
          <a:prstGeom prst="pie">
            <a:avLst/>
          </a:prstGeom>
          <a:solidFill>
            <a:srgbClr val="f79646">
              <a:alpha val="9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Masters (eo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Slaves (eo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' Addressable Range (mutab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53" name="Straight Arrow Connector 8"/>
          <p:cNvCxnSpPr/>
          <p:nvPr/>
        </p:nvCxnSpPr>
        <p:spPr>
          <a:xfrm>
            <a:off x="7108560" y="564840"/>
            <a:ext cx="1080" cy="58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4" name="Elbow Connector 12"/>
          <p:cNvCxnSpPr/>
          <p:nvPr/>
        </p:nvCxnSpPr>
        <p:spPr>
          <a:xfrm rot="5400000">
            <a:off x="2401200" y="720360"/>
            <a:ext cx="1050120" cy="421560"/>
          </a:xfrm>
          <a:prstGeom prst="bentConnector3">
            <a:avLst>
              <a:gd name="adj1" fmla="val 25514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55" name="Rectangle 2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1"/>
          <p:cNvSpPr/>
          <p:nvPr/>
        </p:nvSpPr>
        <p:spPr>
          <a:xfrm>
            <a:off x="6051600" y="120600"/>
            <a:ext cx="2971800" cy="11430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NOTE</a:t>
            </a: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Charter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“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op_module”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instantiates the router,   master(s) and slave(s)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Charter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“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op_module”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binds the above   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    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modules using the TLM2.0 standar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AutoShape 2"/>
          <p:cNvSpPr/>
          <p:nvPr/>
        </p:nvSpPr>
        <p:spPr>
          <a:xfrm>
            <a:off x="254160" y="228600"/>
            <a:ext cx="2286000" cy="457200"/>
          </a:xfrm>
          <a:prstGeom prst="pie">
            <a:avLst/>
          </a:prstGeom>
          <a:solidFill>
            <a:srgbClr val="00d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Inside sc_main(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AutoShape 3"/>
          <p:cNvSpPr/>
          <p:nvPr/>
        </p:nvSpPr>
        <p:spPr>
          <a:xfrm>
            <a:off x="76320" y="768240"/>
            <a:ext cx="5333760" cy="6033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umber of masters for th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OP MODUL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number_of_masters”, "2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76320" y="1539720"/>
            <a:ext cx="6966000" cy="603360"/>
          </a:xfrm>
          <a:prstGeom prst="pie">
            <a:avLst/>
          </a:prstGeom>
          <a:solidFill>
            <a:srgbClr val="ffff00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e-Set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number of masters for the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TOP MODUL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(to illustrate that the last set value is considered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number_of_masters”, "1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76320" y="2343960"/>
            <a:ext cx="6324480" cy="455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umber of slaves for th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OP MODUL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&gt;set_preset_cci_value(“top_module_inst.number_of_slaves”, "4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AutoShape 6"/>
          <p:cNvSpPr/>
          <p:nvPr/>
        </p:nvSpPr>
        <p:spPr>
          <a:xfrm>
            <a:off x="76320" y="2969640"/>
            <a:ext cx="7192800" cy="455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Override the default maximum set addressable limit of th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RouterInstance.addr_max”, "1024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AutoShape 7"/>
          <p:cNvSpPr/>
          <p:nvPr/>
        </p:nvSpPr>
        <p:spPr>
          <a:xfrm>
            <a:off x="76320" y="3599640"/>
            <a:ext cx="7310160" cy="1369440"/>
          </a:xfrm>
          <a:prstGeom prst="pie">
            <a:avLst/>
          </a:prstGeom>
          <a:solidFill>
            <a:srgbClr val="cc0000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and lock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Table content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reset values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for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_1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RouterInstance.r_index_1”, "1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index_1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RouterInstance.r_addr_start”, "128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addr_start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RouterInstance.r_addr_end”, “255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addr_end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AutoShape 8"/>
          <p:cNvSpPr/>
          <p:nvPr/>
        </p:nvSpPr>
        <p:spPr>
          <a:xfrm>
            <a:off x="81000" y="5168880"/>
            <a:ext cx="3424320" cy="455400"/>
          </a:xfrm>
          <a:prstGeom prst="pie">
            <a:avLst/>
          </a:prstGeom>
          <a:solidFill>
            <a:srgbClr val="bfbfb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nstantiat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OP MODUL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op_module top_mod(“top_module_inst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AutoShape 9"/>
          <p:cNvSpPr/>
          <p:nvPr/>
        </p:nvSpPr>
        <p:spPr>
          <a:xfrm>
            <a:off x="76320" y="5661000"/>
            <a:ext cx="3886200" cy="638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imualation Starts after construction of the hierarchy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c_start(1140, SC_NS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Rectangle 1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1"/>
          <p:cNvSpPr/>
          <p:nvPr/>
        </p:nvSpPr>
        <p:spPr>
          <a:xfrm>
            <a:off x="254160" y="228600"/>
            <a:ext cx="3174840" cy="457200"/>
          </a:xfrm>
          <a:prstGeom prst="pie">
            <a:avLst/>
          </a:prstGeom>
          <a:solidFill>
            <a:srgbClr val="cc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Within TOP_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2"/>
          <p:cNvSpPr/>
          <p:nvPr/>
        </p:nvSpPr>
        <p:spPr>
          <a:xfrm>
            <a:off x="243000" y="1020600"/>
            <a:ext cx="8443800" cy="5151600"/>
          </a:xfrm>
          <a:custGeom>
            <a:avLst/>
            <a:gdLst>
              <a:gd name="textAreaLeft" fmla="*/ 3600 w 8443800"/>
              <a:gd name="textAreaRight" fmla="*/ 8440200 w 8443800"/>
              <a:gd name="textAreaTop" fmla="*/ 3600 h 5151600"/>
              <a:gd name="textAreaBottom" fmla="*/ 5148000 h 5151600"/>
            </a:gdLst>
            <a:ahLst/>
            <a:rect l="textAreaLeft" t="textAreaTop" r="textAreaRight" b="textAreaBottom"/>
            <a:pathLst>
              <a:path w="8443798" h="5151601">
                <a:moveTo>
                  <a:pt x="13356" y="0"/>
                </a:moveTo>
                <a:lnTo>
                  <a:pt x="13355" y="0"/>
                </a:lnTo>
                <a:cubicBezTo>
                  <a:pt x="5979" y="0"/>
                  <a:pt x="0" y="5979"/>
                  <a:pt x="0" y="13355"/>
                </a:cubicBezTo>
                <a:lnTo>
                  <a:pt x="0" y="5138245"/>
                </a:lnTo>
                <a:cubicBezTo>
                  <a:pt x="0" y="5145621"/>
                  <a:pt x="5979" y="5151600"/>
                  <a:pt x="13355" y="5151601"/>
                </a:cubicBezTo>
                <a:lnTo>
                  <a:pt x="8430442" y="5151601"/>
                </a:lnTo>
                <a:cubicBezTo>
                  <a:pt x="8437818" y="5151600"/>
                  <a:pt x="8443798" y="5145621"/>
                  <a:pt x="8443798" y="5138245"/>
                </a:cubicBezTo>
                <a:lnTo>
                  <a:pt x="8443798" y="13356"/>
                </a:lnTo>
                <a:cubicBezTo>
                  <a:pt x="8443798" y="5979"/>
                  <a:pt x="8437818" y="0"/>
                  <a:pt x="8430442" y="0"/>
                </a:cubicBezTo>
                <a:lnTo>
                  <a:pt x="13356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99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AutoShape 3"/>
          <p:cNvSpPr/>
          <p:nvPr/>
        </p:nvSpPr>
        <p:spPr>
          <a:xfrm>
            <a:off x="890640" y="1591200"/>
            <a:ext cx="7491240" cy="821160"/>
          </a:xfrm>
          <a:prstGeom prst="pie">
            <a:avLst/>
          </a:prstGeom>
          <a:solidFill>
            <a:srgbClr val="cc0000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umber of masters for th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 and lock the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%s.RouterInstance.r_masters”, name(),  n_masters.get()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Here,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_masters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1;  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(default value overridden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masters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422280" y="1128600"/>
            <a:ext cx="2092320" cy="330480"/>
          </a:xfrm>
          <a:prstGeom prst="pie">
            <a:avLst/>
          </a:prstGeom>
          <a:solidFill>
            <a:srgbClr val="cccccc"/>
          </a:solidFill>
          <a:ln w="9360">
            <a:solidFill>
              <a:srgbClr val="99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Within CONSTRUCTOR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AutoShape 5"/>
          <p:cNvSpPr/>
          <p:nvPr/>
        </p:nvSpPr>
        <p:spPr>
          <a:xfrm>
            <a:off x="6364440" y="120600"/>
            <a:ext cx="2622240" cy="7938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Default Values</a:t>
            </a: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Number of masters : n_masters = 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Number of slaves : n_slaves = 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890640" y="2592720"/>
            <a:ext cx="7262640" cy="821160"/>
          </a:xfrm>
          <a:prstGeom prst="pie">
            <a:avLst/>
          </a:prstGeom>
          <a:solidFill>
            <a:srgbClr val="cc0000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umber of slaves for th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 (RouterTable) and lock the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%s.RouterInstance.r_slaves”, name(), n_slaves.get()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Here,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_slaves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4; 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(default value overridden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slaves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AutoShape 7"/>
          <p:cNvSpPr/>
          <p:nvPr/>
        </p:nvSpPr>
        <p:spPr>
          <a:xfrm>
            <a:off x="2514600" y="3672000"/>
            <a:ext cx="3849840" cy="601560"/>
          </a:xfrm>
          <a:prstGeom prst="pie">
            <a:avLst/>
          </a:prstGeom>
          <a:solidFill>
            <a:srgbClr val="ff9966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nstantiate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 instance and fill the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 TABL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based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on th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_siz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preset value (if set)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 routerInstance(“RouterInstance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AutoShape 8"/>
          <p:cNvSpPr/>
          <p:nvPr/>
        </p:nvSpPr>
        <p:spPr>
          <a:xfrm>
            <a:off x="495360" y="4710960"/>
            <a:ext cx="3531960" cy="455400"/>
          </a:xfrm>
          <a:prstGeom prst="pie">
            <a:avLst/>
          </a:prstGeom>
          <a:solidFill>
            <a:srgbClr val="23ff23"/>
          </a:solidFill>
          <a:ln w="9360">
            <a:solidFill>
              <a:srgbClr val="355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onstruct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MASTER(S) (their number as set within ‘sc_main’ 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AutoShape 9"/>
          <p:cNvSpPr/>
          <p:nvPr/>
        </p:nvSpPr>
        <p:spPr>
          <a:xfrm>
            <a:off x="4748040" y="4713120"/>
            <a:ext cx="3657600" cy="638640"/>
          </a:xfrm>
          <a:prstGeom prst="pie">
            <a:avLst/>
          </a:prstGeom>
          <a:solidFill>
            <a:srgbClr val="ff3366"/>
          </a:solidFill>
          <a:ln w="9360">
            <a:solidFill>
              <a:srgbClr val="355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Initializes base address of slave(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to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’s start address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nd finally Cosntruct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(s) (number of slave(s) as set within 'sc_main'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AutoShape 10"/>
          <p:cNvSpPr/>
          <p:nvPr/>
        </p:nvSpPr>
        <p:spPr>
          <a:xfrm>
            <a:off x="963720" y="4287960"/>
            <a:ext cx="7084800" cy="407880"/>
          </a:xfrm>
          <a:prstGeom prst="pie">
            <a:avLst/>
          </a:prstGeom>
          <a:solidFill>
            <a:srgbClr val="9966cc"/>
          </a:solidFill>
          <a:ln w="9360">
            <a:solidFill>
              <a:srgbClr val="355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Binding in accordance to TLM2.0 standard via ROU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AutoShape 11"/>
          <p:cNvSpPr/>
          <p:nvPr/>
        </p:nvSpPr>
        <p:spPr>
          <a:xfrm>
            <a:off x="317520" y="5418720"/>
            <a:ext cx="7302600" cy="821160"/>
          </a:xfrm>
          <a:prstGeom prst="pie">
            <a:avLst/>
          </a:prstGeom>
          <a:solidFill>
            <a:srgbClr val="b3b300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ry and Set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the preset values to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 TABLE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ontent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ting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_1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contents will result in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iled parameter setting warning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generation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Warning: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DEFAULT_BROKER_0: set_preset_cci_value: ... setting failed because preset value is locked!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AutoShape 12"/>
          <p:cNvSpPr/>
          <p:nvPr/>
        </p:nvSpPr>
        <p:spPr>
          <a:xfrm>
            <a:off x="7405560" y="3200400"/>
            <a:ext cx="1281240" cy="1079640"/>
          </a:xfrm>
          <a:prstGeom prst="borderCallout1">
            <a:avLst>
              <a:gd name="adj1" fmla="val 18750"/>
              <a:gd name="adj2" fmla="val -8333"/>
              <a:gd name="adj3" fmla="val 72763"/>
              <a:gd name="adj4" fmla="val -81569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Used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ry-catc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mechanism t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the prese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values for the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 Tabl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AutoShape 13"/>
          <p:cNvSpPr/>
          <p:nvPr/>
        </p:nvSpPr>
        <p:spPr>
          <a:xfrm flipH="1">
            <a:off x="343800" y="3573360"/>
            <a:ext cx="1079640" cy="6858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62379"/>
              <a:gd name="adj6" fmla="val -1000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_siz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preset valu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also specified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16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254160" y="228600"/>
            <a:ext cx="2489040" cy="45720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Within ROUTE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Freeform 2"/>
          <p:cNvSpPr/>
          <p:nvPr/>
        </p:nvSpPr>
        <p:spPr>
          <a:xfrm>
            <a:off x="254160" y="3657600"/>
            <a:ext cx="3860640" cy="1828800"/>
          </a:xfrm>
          <a:custGeom>
            <a:avLst/>
            <a:gdLst/>
            <a:ahLst/>
            <a:rect l="l" t="t" r="r" b="b"/>
            <a:pathLst>
              <a:path w="3860642" h="1828800">
                <a:moveTo>
                  <a:pt x="1016" y="0"/>
                </a:moveTo>
                <a:lnTo>
                  <a:pt x="1015" y="0"/>
                </a:lnTo>
                <a:cubicBezTo>
                  <a:pt x="454" y="0"/>
                  <a:pt x="0" y="454"/>
                  <a:pt x="0" y="1015"/>
                </a:cubicBezTo>
                <a:lnTo>
                  <a:pt x="0" y="1827784"/>
                </a:lnTo>
                <a:cubicBezTo>
                  <a:pt x="0" y="1828345"/>
                  <a:pt x="454" y="1828799"/>
                  <a:pt x="1015" y="1828800"/>
                </a:cubicBezTo>
                <a:lnTo>
                  <a:pt x="3859626" y="1828800"/>
                </a:lnTo>
                <a:cubicBezTo>
                  <a:pt x="3860187" y="1828799"/>
                  <a:pt x="3860642" y="1828345"/>
                  <a:pt x="3860642" y="1827784"/>
                </a:cubicBezTo>
                <a:lnTo>
                  <a:pt x="3860642" y="1016"/>
                </a:lnTo>
                <a:cubicBezTo>
                  <a:pt x="3860642" y="454"/>
                  <a:pt x="3860187" y="0"/>
                  <a:pt x="3859626" y="0"/>
                </a:cubicBezTo>
                <a:lnTo>
                  <a:pt x="1016" y="0"/>
                </a:lnTo>
                <a:close/>
              </a:path>
            </a:pathLst>
          </a:cu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AutoShape 3"/>
          <p:cNvSpPr/>
          <p:nvPr/>
        </p:nvSpPr>
        <p:spPr>
          <a:xfrm>
            <a:off x="5979960" y="84240"/>
            <a:ext cx="3079800" cy="1022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Default Values</a:t>
            </a: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Number of masters : r_masters = 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Number of slaves : r_slaves = 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Max' Addressable Limit : addr_limit = 64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AutoShape 4"/>
          <p:cNvSpPr/>
          <p:nvPr/>
        </p:nvSpPr>
        <p:spPr>
          <a:xfrm>
            <a:off x="398520" y="3827520"/>
            <a:ext cx="2489040" cy="33012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Within 'beoe' phas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398520" y="4343400"/>
            <a:ext cx="3487680" cy="91440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Builds the Router Table contents with default  values within this phase in case if no preset values were set from th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op_module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Freeform 6"/>
          <p:cNvSpPr/>
          <p:nvPr/>
        </p:nvSpPr>
        <p:spPr>
          <a:xfrm>
            <a:off x="254160" y="912960"/>
            <a:ext cx="4622760" cy="2058840"/>
          </a:xfrm>
          <a:custGeom>
            <a:avLst/>
            <a:gdLst/>
            <a:ahLst/>
            <a:rect l="l" t="t" r="r" b="b"/>
            <a:pathLst>
              <a:path w="4546442" h="2058835">
                <a:moveTo>
                  <a:pt x="1144" y="0"/>
                </a:moveTo>
                <a:lnTo>
                  <a:pt x="1143" y="0"/>
                </a:lnTo>
                <a:cubicBezTo>
                  <a:pt x="512" y="0"/>
                  <a:pt x="0" y="512"/>
                  <a:pt x="0" y="1143"/>
                </a:cubicBezTo>
                <a:lnTo>
                  <a:pt x="0" y="2057691"/>
                </a:lnTo>
                <a:cubicBezTo>
                  <a:pt x="0" y="2058322"/>
                  <a:pt x="512" y="2058834"/>
                  <a:pt x="1143" y="2058835"/>
                </a:cubicBezTo>
                <a:lnTo>
                  <a:pt x="4545298" y="2058835"/>
                </a:lnTo>
                <a:cubicBezTo>
                  <a:pt x="4545929" y="2058834"/>
                  <a:pt x="4546442" y="2058322"/>
                  <a:pt x="4546442" y="2057691"/>
                </a:cubicBezTo>
                <a:lnTo>
                  <a:pt x="4546442" y="1144"/>
                </a:lnTo>
                <a:cubicBezTo>
                  <a:pt x="4546442" y="512"/>
                  <a:pt x="4545929" y="0"/>
                  <a:pt x="4545298" y="0"/>
                </a:cubicBezTo>
                <a:lnTo>
                  <a:pt x="1144" y="0"/>
                </a:lnTo>
                <a:close/>
              </a:path>
            </a:pathLst>
          </a:cu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AutoShape 7"/>
          <p:cNvSpPr/>
          <p:nvPr/>
        </p:nvSpPr>
        <p:spPr>
          <a:xfrm>
            <a:off x="361800" y="1020600"/>
            <a:ext cx="2489400" cy="32868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Within constructo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AutoShape 8"/>
          <p:cNvSpPr/>
          <p:nvPr/>
        </p:nvSpPr>
        <p:spPr>
          <a:xfrm>
            <a:off x="361800" y="1530360"/>
            <a:ext cx="4173840" cy="32868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addr_limit =1024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(already initialized within sc_main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AutoShape 9"/>
          <p:cNvSpPr/>
          <p:nvPr/>
        </p:nvSpPr>
        <p:spPr>
          <a:xfrm>
            <a:off x="398520" y="1922400"/>
            <a:ext cx="4325760" cy="32868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_masters = 1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(already set and locked by TOP_MODU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AutoShape 10"/>
          <p:cNvSpPr/>
          <p:nvPr/>
        </p:nvSpPr>
        <p:spPr>
          <a:xfrm>
            <a:off x="398520" y="2390760"/>
            <a:ext cx="4173480" cy="32868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_slaves = 4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(already set and locked by TOP_MODU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AutoShape 11"/>
          <p:cNvSpPr/>
          <p:nvPr/>
        </p:nvSpPr>
        <p:spPr>
          <a:xfrm>
            <a:off x="5896080" y="4424400"/>
            <a:ext cx="914400" cy="457200"/>
          </a:xfrm>
          <a:prstGeom prst="pie">
            <a:avLst/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AutoShape 12"/>
          <p:cNvSpPr/>
          <p:nvPr/>
        </p:nvSpPr>
        <p:spPr>
          <a:xfrm>
            <a:off x="7875720" y="4387680"/>
            <a:ext cx="914400" cy="457200"/>
          </a:xfrm>
          <a:prstGeom prst="pie">
            <a:avLst/>
          </a:prstGeom>
          <a:solidFill>
            <a:srgbClr val="ff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AutoShape 13"/>
          <p:cNvSpPr/>
          <p:nvPr/>
        </p:nvSpPr>
        <p:spPr>
          <a:xfrm>
            <a:off x="6558120" y="2732040"/>
            <a:ext cx="1371600" cy="45720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AutoShape 14"/>
          <p:cNvSpPr/>
          <p:nvPr/>
        </p:nvSpPr>
        <p:spPr>
          <a:xfrm>
            <a:off x="5823000" y="2236680"/>
            <a:ext cx="2971800" cy="457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TLM2 Communicatio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94" name="AutoShape 15"/>
          <p:cNvCxnSpPr/>
          <p:nvPr/>
        </p:nvCxnSpPr>
        <p:spPr>
          <a:xfrm flipV="1">
            <a:off x="6110280" y="3296880"/>
            <a:ext cx="527760" cy="95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16"/>
          <p:cNvCxnSpPr/>
          <p:nvPr/>
        </p:nvCxnSpPr>
        <p:spPr>
          <a:xfrm>
            <a:off x="7911720" y="3325320"/>
            <a:ext cx="618120" cy="942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17"/>
          <p:cNvCxnSpPr/>
          <p:nvPr/>
        </p:nvCxnSpPr>
        <p:spPr>
          <a:xfrm flipH="1" flipV="1">
            <a:off x="7798680" y="3436560"/>
            <a:ext cx="484920" cy="79128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97" name="AutoShape 18"/>
          <p:cNvCxnSpPr/>
          <p:nvPr/>
        </p:nvCxnSpPr>
        <p:spPr>
          <a:xfrm flipH="1">
            <a:off x="6285960" y="3443400"/>
            <a:ext cx="440280" cy="821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98" name="Rectangle 2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09_Hierarchical_Override_of_Parameter_Values.log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80880" y="12193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ting preset value of the number of initiators to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ting preset value of the number of initiators to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ting preset value of the number of targets to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 and lock Router Table target_1 conten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 and lock Router Table Start Address for target_1 to 12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 and lock Router Table End Address for target_1 to 25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Instantiate top module after setting preset values to top_module, router and target paramet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: @0 s, [TOP_MODULE C_TOR] -- [TOP MODULE CONSTRUCTOR BEGINS HERE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: @0 s, [TOP_MODULE C_TOR] :  Number of initiators :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: @0 s, [TOP_MODULE C_TOR] :  Number of targets :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: @0 s, [TOP_MODULE C_TOR] : Creating Router : RouterInstan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.RouterInstance: @0 s, [ROUTER C_TOR] ----- [ROUTER CONSTRUCTOR BEGINS HERE] ------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800" spc="-1" strike="noStrike">
                <a:solidFill>
                  <a:srgbClr val="3333cc"/>
                </a:solidFill>
                <a:latin typeface="Calibri"/>
                <a:ea typeface="Calibri"/>
              </a:rPr>
              <a:t>The remained of the logfile is interesting but too lengthy to include here; the reader is encouraged to run the example, or examine the golden logfile, to see all of the detail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, Girish Verma</dc:creator>
  <dc:description/>
  <cp:keywords>CTPClassification=CTP_IC:VisualMarkings=</cp:keywords>
  <dc:language>en-US</dc:language>
  <cp:lastModifiedBy>Wieman, Trevor</cp:lastModifiedBy>
  <cp:lastPrinted>2017-02-05T19:45:47Z</cp:lastPrinted>
  <dcterms:modified xsi:type="dcterms:W3CDTF">2017-12-15T21:02:17Z</dcterms:modified>
  <cp:revision>45</cp:revision>
  <dc:subject/>
  <dc:title>Hierarchical_Override_of_Parameter_Val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5 21:02:17Z</vt:lpwstr>
  </property>
  <property fmtid="{D5CDD505-2E9C-101B-9397-08002B2CF9AE}" pid="5" name="TitusGUID">
    <vt:lpwstr>5dfb4e06-5d0b-41e9-9b26-1c1bb8b29aab</vt:lpwstr>
  </property>
</Properties>
</file>