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60040" y="744480"/>
            <a:ext cx="4915080" cy="368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244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3778200" y="9429480"/>
            <a:ext cx="2857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93DC48-4D5C-4132-8FC5-6770BBE89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F7ABC4-92F2-4229-A292-428F7AEF77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84FFE5-BEFE-49D2-A83B-1544C215C7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5B3A5-A7AD-4177-9926-B79D11A010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06A55-87A0-416B-8A2C-7D2E741E7C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A6EAF-36EC-45A6-9D59-27AEB08199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32C9C-0DF5-4014-8B1A-C06A432005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E0BBF-8292-4CC5-A2A9-C244E785D5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C112E-CD62-4B7C-AD96-19178CCC68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0B6333-7BE1-4B19-A739-2358C5D673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0474C-2BAD-4688-9A1B-7DA376148C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4E299-CD45-4903-B77C-8CBBFF2380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CA561-6B72-4FA4-9F8A-F580BAA517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960FB-E2CB-4501-8091-AA31E97BEC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6F7EB-B901-4DF7-A8AB-625681D586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0AE61-439B-4198-8316-81E1D7A3D7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4A3A3-64F9-4980-BAC6-17C6B311BF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B98AB7-A8D5-4DCA-8DFA-462DB84A2D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EBB41D-95B7-4987-B587-3EEB35494E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A09F4-91F4-4C33-8D56-81DEED1552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7B48E-AD63-4AFD-879D-F5F901F8F5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D9BFF-78A7-4845-BC8C-D972D6D05B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01422-D1AE-414A-B030-55A90657BC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97667-6C8C-451E-911F-1FB1CC7D72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BC927-9D6A-496A-B8FC-E4E4E526AC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00D65-85BE-4085-80FC-0FD3C2DEF2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F8A65-7625-4459-8CC4-35440572C7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97FA8-1A6C-4E96-BC7F-AB3B7BC370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D5796-91B6-47B5-B931-B119089348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4D06E-8286-4B90-B325-AE14F8E2DF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6590E-6B72-4EF4-B74F-5A0B71D8A4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E7139-4B07-425C-A697-411ED0B773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5508C-1DCA-4C37-BE27-00FD2F2FC1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04BEC-2489-4C17-AC88-A569A4025F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FB4FF-EDD3-42EA-8590-F85C74D15A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8F045-048B-4619-BFB7-A54AC86F3B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0983C-CD57-4BB2-9562-EF234DC11D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753F3B-ABCE-4664-937F-2A39C1268958}" type="slidenum"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429000" y="5105520"/>
            <a:ext cx="4070520" cy="1428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Dec 201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Arial"/>
              </a:rPr>
              <a:t>Parameter I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1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3505320" y="1114560"/>
            <a:ext cx="1060200" cy="257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4092480" y="1631160"/>
            <a:ext cx="4953240" cy="27288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7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3497400" y="2443320"/>
            <a:ext cx="1143000" cy="212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5057640" y="4714560"/>
            <a:ext cx="3988080" cy="63864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ew value to string parameter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str_value(“Hello_New_String”)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set_cci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);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3795840" y="3603240"/>
            <a:ext cx="5249880" cy="638640"/>
          </a:xfrm>
          <a:prstGeom prst="roundRect">
            <a:avLst>
              <a:gd name="adj" fmla="val 25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Query Parameter Basic Typ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str_param_handle.get_basic_typ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Return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“4” (std::string type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3"/>
          <p:cNvSpPr/>
          <p:nvPr/>
        </p:nvSpPr>
        <p:spPr>
          <a:xfrm>
            <a:off x="4218120" y="2733840"/>
            <a:ext cx="4827600" cy="63792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ocumenta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a mutable type string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1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8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17"/>
          <p:cNvSpPr/>
          <p:nvPr/>
        </p:nvSpPr>
        <p:spPr>
          <a:xfrm>
            <a:off x="3809880" y="1425600"/>
            <a:ext cx="5181840" cy="1263600"/>
          </a:xfrm>
          <a:prstGeom prst="roundRect">
            <a:avLst>
              <a:gd name="adj" fmla="val 25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Query the latest write originator </a:t>
            </a:r>
            <a:r>
              <a:rPr b="1" lang="en-US" sz="11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const cci::cci_originator* </a:t>
            </a:r>
            <a:br>
              <a:rPr sz="1100"/>
            </a:b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                  str_originator = str_param_handle.get_latest_write_originator();</a:t>
            </a:r>
            <a:br>
              <a:rPr sz="1100"/>
            </a:b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Name of the latest write originator :   </a:t>
            </a: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str_originator.get_name();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Returns Originator :  </a:t>
            </a: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param_cfgr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18"/>
          <p:cNvSpPr/>
          <p:nvPr/>
        </p:nvSpPr>
        <p:spPr>
          <a:xfrm>
            <a:off x="3429000" y="1104840"/>
            <a:ext cx="1143000" cy="2286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10"/>
          <p:cNvSpPr/>
          <p:nvPr/>
        </p:nvSpPr>
        <p:spPr>
          <a:xfrm>
            <a:off x="4546440" y="3752640"/>
            <a:ext cx="4445280" cy="63864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an instance of cci_value to receive value into cci_value obje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rx_value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11"/>
          <p:cNvSpPr/>
          <p:nvPr/>
        </p:nvSpPr>
        <p:spPr>
          <a:xfrm>
            <a:off x="4014720" y="4696200"/>
            <a:ext cx="4978440" cy="82116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CCI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x_value = str_param_ptr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String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x_value.get_string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ed String :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Hello_New_String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4352760" y="2999520"/>
            <a:ext cx="4638960" cy="45540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s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_param_handle.get_cci_value().to_json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Hello_New_String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Line 2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5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4368960" y="1082520"/>
            <a:ext cx="1193760" cy="365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10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3"/>
          <p:cNvSpPr/>
          <p:nvPr/>
        </p:nvSpPr>
        <p:spPr>
          <a:xfrm>
            <a:off x="304920" y="1532160"/>
            <a:ext cx="4521240" cy="821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ew value to string parameter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str_value(“String_Value_Set_by_OWNER”)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ing_param.set_cci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);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4"/>
          <p:cNvSpPr/>
          <p:nvPr/>
        </p:nvSpPr>
        <p:spPr>
          <a:xfrm>
            <a:off x="4368960" y="2438280"/>
            <a:ext cx="1193760" cy="365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8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15"/>
          <p:cNvSpPr/>
          <p:nvPr/>
        </p:nvSpPr>
        <p:spPr>
          <a:xfrm>
            <a:off x="380880" y="2865600"/>
            <a:ext cx="4445280" cy="821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an object of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o receive value into cci_value obje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  rec_str_value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6"/>
          <p:cNvSpPr/>
          <p:nvPr/>
        </p:nvSpPr>
        <p:spPr>
          <a:xfrm>
            <a:off x="380880" y="3986280"/>
            <a:ext cx="3810240" cy="6379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CCI Value (S) :  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ec_str_value  =  string_param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7"/>
          <p:cNvSpPr/>
          <p:nvPr/>
        </p:nvSpPr>
        <p:spPr>
          <a:xfrm>
            <a:off x="380880" y="4759200"/>
            <a:ext cx="3997440" cy="100368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new string value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:  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d::string recv_str  = rec_str_value.get_string();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string : 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String_Value_Set_by_OWNER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ex07_Parameter_Information.log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Content Placeholder 4"/>
          <p:cNvSpPr/>
          <p:nvPr/>
        </p:nvSpPr>
        <p:spPr>
          <a:xfrm>
            <a:off x="380880" y="1139760"/>
            <a:ext cx="868680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Setting 'param_owner.mutable_string_param' value to 'Initialized within sc_main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Demonstrating 'comparison' between the values of a data type for different mutability typ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'mutable' &amp; 'immutable' type String parameters - VALUES MATC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parameter_owner module declares two cci type parameter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One is of 'Integer type' and the other is of 'String type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'Integer type' has 'pre_read', 'pre/post_write' callback registered within the OBSERV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preset_value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Is preset value ?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get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name 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Using 'get_default_value()' : 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Param description - 'This is a mutable type integer parameter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Broker Type : DEFAULT_BROKER - is not a private broker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preset_value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_owner.mutable_string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reset Value : Initialized within sc_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Is preset value ?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0 s, [OBSERVER C_TOR] : Broker Type : DEFAULT_BROKER- is not a private broker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_owner.mutable_int_param default value hasn't been modifi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Is Default Value ?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Returned status : 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 ns, @ 1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 ns, [OWNER -&gt; Set] : Overriding default value of param_owner.mutable_int_param to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 ns, [OBSERVER pre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 ns, [OBSERVER post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@ 2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_owner.mutable_int_param value has been modifi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Is Default Value ?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Returned status : 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_owner.mutable_string_param New Value : Initialized within sc_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name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4 ns, [OBSERVER pre_read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value :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desc : This is a mutable type integer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metadata : {"min_value":["0","Minimum value"],"max_value":["100","Maximum value"],"unit":["F","Unit of the parameter (Farad)"]}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@ 6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[CFGR -&gt; Set] :  param_owner.mutable_int_param value to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6 ns, [OBSERVER pre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6 ns, [OBSERVER post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@ 10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name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0 ns, [OBSERVER pre_read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value: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desc : This is a mutable type integer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@ 12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param_owner.mutable_int_param is in un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Parameter locked using passw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@ 14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param_owner.mutable_int_param is in 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Parameter unlocked using passw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@ 16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[CFGR] : param_owner.mutable_int_param is in un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@ 22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set_value()' for string-type param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[CFGR] : Parameter Description : This is a mutable type string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[CFGR -&gt; Set] : Get Basic Type using 'get_basic_type()' : 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@ 24 ns demonstrating 'get_latest_write_originator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] : Originator for the latest write on string type cci-parameter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@ 24 ns demonstrating 'get_value' for string-type param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] : 'Retrieve1' using 'json_serialize' and 'Retrieve2' using 'ge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 -&gt; Retrieve1] : param_owner.mutable_string_param value is "Hello_New_String"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 -&gt; Retrieve2] : Hello_New_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6 ns, @ 26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setting values by OWNER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6 ns, [OWNER -&gt; Set] : New String Value : 'String_Value_Set_by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8 ns, @ 28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retrieving values by OWNER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8 ns, [OWNER -&gt; Retrieve] : Receive str_value using 'cci_value' : String_Value_Set_by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t and Query Various Attributes of 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CI Parame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228600" y="128592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8520" indent="-2937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functionality have been demonstrated in this example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20808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•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tting and querying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description/documentation/meta-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 valid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locked sta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 orig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t and Query Parameter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3598920" y="70956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6248520" y="2232000"/>
            <a:ext cx="2133360" cy="30492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-32365"/>
              <a:gd name="adj5" fmla="val -358814"/>
              <a:gd name="adj6" fmla="val -63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server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838080" y="1600200"/>
            <a:ext cx="175284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141125"/>
              <a:gd name="adj5" fmla="val -161458"/>
              <a:gd name="adj6" fmla="val 178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Own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8"/>
          <p:cNvSpPr/>
          <p:nvPr/>
        </p:nvSpPr>
        <p:spPr>
          <a:xfrm>
            <a:off x="6477120" y="1552680"/>
            <a:ext cx="2438280" cy="30456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25912"/>
              <a:gd name="adj5" fmla="val -143231"/>
              <a:gd name="adj6" fmla="val -54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Configurato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9"/>
          <p:cNvSpPr/>
          <p:nvPr/>
        </p:nvSpPr>
        <p:spPr>
          <a:xfrm>
            <a:off x="2666880" y="2295360"/>
            <a:ext cx="2057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9722"/>
              <a:gd name="adj5" fmla="val -57935"/>
              <a:gd name="adj6" fmla="val -13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ing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0"/>
          <p:cNvSpPr/>
          <p:nvPr/>
        </p:nvSpPr>
        <p:spPr>
          <a:xfrm>
            <a:off x="152280" y="2219400"/>
            <a:ext cx="2057400" cy="68580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104782"/>
              <a:gd name="adj5" fmla="val -40500"/>
              <a:gd name="adj6" fmla="val 1051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nteger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630360" y="4143240"/>
            <a:ext cx="7543800" cy="5335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1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For a detailed understanding of registration and implementation of  callbacks,  please go see examples 8, 11 and 12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6"/>
          <p:cNvSpPr/>
          <p:nvPr/>
        </p:nvSpPr>
        <p:spPr>
          <a:xfrm>
            <a:off x="5638680" y="3048120"/>
            <a:ext cx="2895840" cy="952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68" y="2592"/>
                </a:moveTo>
                <a:lnTo>
                  <a:pt x="23459" y="2592"/>
                </a:lnTo>
                <a:lnTo>
                  <a:pt x="23459" y="-4320"/>
                </a:lnTo>
                <a:lnTo>
                  <a:pt x="20449" y="-15007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different types of callbacks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(pre_read, pre_write &amp; post_write)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on the parameters of interest to monitor their activities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7"/>
          <p:cNvSpPr/>
          <p:nvPr/>
        </p:nvSpPr>
        <p:spPr>
          <a:xfrm>
            <a:off x="873000" y="5448240"/>
            <a:ext cx="377532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2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The originator information will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 be displayed by the following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Shap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5715000" y="5410080"/>
            <a:ext cx="22860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20" y="1200"/>
                </a:moveTo>
                <a:lnTo>
                  <a:pt x="-4230" y="1200"/>
                </a:lnTo>
                <a:lnTo>
                  <a:pt x="-4230" y="5800"/>
                </a:lnTo>
                <a:lnTo>
                  <a:pt x="-4110" y="157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b_typ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riginator_nam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685800" y="4724280"/>
            <a:ext cx="449568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Within the Callbacks implementation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br>
              <a:rPr sz="14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parameter :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allback_event.get_name()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originator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allback_event.originator.name();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6"/>
          <p:cNvSpPr/>
          <p:nvPr/>
        </p:nvSpPr>
        <p:spPr>
          <a:xfrm>
            <a:off x="1981080" y="3438360"/>
            <a:ext cx="2133720" cy="304920"/>
          </a:xfrm>
          <a:prstGeom prst="borderCallout2">
            <a:avLst>
              <a:gd name="adj1" fmla="val 18750"/>
              <a:gd name="adj2" fmla="val -8333"/>
              <a:gd name="adj3" fmla="val 58472"/>
              <a:gd name="adj4" fmla="val 133791"/>
              <a:gd name="adj5" fmla="val -752259"/>
              <a:gd name="adj6" fmla="val 132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eter Container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8"/>
          <p:cNvSpPr/>
          <p:nvPr/>
        </p:nvSpPr>
        <p:spPr>
          <a:xfrm>
            <a:off x="4600440" y="987480"/>
            <a:ext cx="9720" cy="525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2260440" y="2829240"/>
            <a:ext cx="4699080" cy="82116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Get handle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using the abov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Originato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broker_handle globalBroker =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cci::cci_broker_manager::get_broker(me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3598920" y="53352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>
            <a:off x="1897200" y="1959480"/>
            <a:ext cx="542592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a cci_originator instance to get access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originator me(“sc_main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646200" y="3910680"/>
            <a:ext cx="7927920" cy="100368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preset value using broker handle that overrides the default value passed as argument to the constructor of the sc_modul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loberBroker.set_preset_cci_value(“param_owner.mutable_string_param”,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cci_value(“Initialized within sc_main”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228600" y="4959360"/>
            <a:ext cx="87631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Bitstream Charter"/>
              </a:rPr>
              <a:t>Demonstrating value comparison for different mutability types with the same data typ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76320" y="5488920"/>
            <a:ext cx="9067680" cy="455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All the three mutability type cci-parameters of std::string type inside parameter container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param&lt; std::string, cci::CCI_MUTABLE_PARAM &gt;  mutab_str_param (“string_mutab_param”,“String_Value_A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1887480" y="1083960"/>
            <a:ext cx="542628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gister a global brok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register_broker(new cci_utils::broker(“DEFAULT_BROKER”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Line 3"/>
          <p:cNvSpPr/>
          <p:nvPr/>
        </p:nvSpPr>
        <p:spPr>
          <a:xfrm>
            <a:off x="1863720" y="4803840"/>
            <a:ext cx="9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5989680" y="4267080"/>
            <a:ext cx="27907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72960" y="4375080"/>
            <a:ext cx="2502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7540560" y="4987800"/>
            <a:ext cx="1479600" cy="586080"/>
          </a:xfrm>
          <a:prstGeom prst="roundRect">
            <a:avLst>
              <a:gd name="adj" fmla="val 2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-&gt; Integ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-&gt; 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600440" y="987480"/>
            <a:ext cx="972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598920" y="55728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7335720" y="4805280"/>
            <a:ext cx="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2506680" y="4795920"/>
            <a:ext cx="4205160" cy="11862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instances of the modules n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owner         param_owner(“param_owner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configurer  param_cfgr(“param_cfgr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observer                        observer_class(“observer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838080" y="1372320"/>
            <a:ext cx="7942320" cy="455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param&lt; std::string, cci::CCI_IMMUTABLE_PARAM&gt; immutab_str_param (“string_immutab_param”, “String_Value_A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1389240" y="2550960"/>
            <a:ext cx="644184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(S)  :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utab_str_param.get_value() == immutable_str_param. get_value()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 ?</a:t>
            </a: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Returns :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362320" y="3775320"/>
            <a:ext cx="4572000" cy="6397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the instantiation of the mod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1"/>
          <p:cNvSpPr/>
          <p:nvPr/>
        </p:nvSpPr>
        <p:spPr>
          <a:xfrm>
            <a:off x="3232080" y="1066680"/>
            <a:ext cx="17640" cy="502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2"/>
          <p:cNvSpPr/>
          <p:nvPr/>
        </p:nvSpPr>
        <p:spPr>
          <a:xfrm>
            <a:off x="4981680" y="485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1380960" y="485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1147680" y="1485000"/>
            <a:ext cx="2851200" cy="82116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ame and assign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(“mutable_int_param, 0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1628640" y="2363400"/>
            <a:ext cx="3205440" cy="82116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ame and assign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ing_param(“mutable_string_param”, “Default_value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4006800" y="1335240"/>
            <a:ext cx="1816200" cy="56988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1995480" y="3834360"/>
            <a:ext cx="2473200" cy="82116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get_default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0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1006560" y="4839120"/>
            <a:ext cx="4500360" cy="1003680"/>
          </a:xfrm>
          <a:prstGeom prst="roundRect">
            <a:avLst>
              <a:gd name="adj" fmla="val 19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documenta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onst std::string init_doc = “This is a mutable type integer parameter”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set_documentation(init_doc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7013520" y="1058760"/>
            <a:ext cx="30240" cy="427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10"/>
          <p:cNvSpPr/>
          <p:nvPr/>
        </p:nvSpPr>
        <p:spPr>
          <a:xfrm>
            <a:off x="5261040" y="1983240"/>
            <a:ext cx="3564000" cy="100368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Declare base pointers and check the existence of the integer and string type parameters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_handle int_param_handle; 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_handle str_param_handle;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1"/>
          <p:cNvSpPr/>
          <p:nvPr/>
        </p:nvSpPr>
        <p:spPr>
          <a:xfrm>
            <a:off x="7419960" y="5210280"/>
            <a:ext cx="1479600" cy="585720"/>
          </a:xfrm>
          <a:prstGeom prst="roundRect">
            <a:avLst>
              <a:gd name="adj" fmla="val 2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-&gt; Integ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-&gt; 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12"/>
          <p:cNvSpPr/>
          <p:nvPr/>
        </p:nvSpPr>
        <p:spPr>
          <a:xfrm>
            <a:off x="1693800" y="865080"/>
            <a:ext cx="3075120" cy="63864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&lt;int&gt; int_param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&lt;std::string&gt; string_param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17"/>
          <p:cNvSpPr/>
          <p:nvPr/>
        </p:nvSpPr>
        <p:spPr>
          <a:xfrm>
            <a:off x="703440" y="3380040"/>
            <a:ext cx="4038480" cy="27360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is_prese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18"/>
          <p:cNvSpPr/>
          <p:nvPr/>
        </p:nvSpPr>
        <p:spPr>
          <a:xfrm>
            <a:off x="5291280" y="3215160"/>
            <a:ext cx="3504960" cy="45612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ptr-&gt;is_prese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1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3886200" y="1006560"/>
            <a:ext cx="1046160" cy="288720"/>
          </a:xfrm>
          <a:prstGeom prst="roundRect">
            <a:avLst>
              <a:gd name="adj" fmla="val 30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4572000" y="1320480"/>
            <a:ext cx="4406760" cy="45612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7"/>
          <p:cNvSpPr/>
          <p:nvPr/>
        </p:nvSpPr>
        <p:spPr>
          <a:xfrm>
            <a:off x="95400" y="1711440"/>
            <a:ext cx="91440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8"/>
          <p:cNvSpPr/>
          <p:nvPr/>
        </p:nvSpPr>
        <p:spPr>
          <a:xfrm>
            <a:off x="4254480" y="4679640"/>
            <a:ext cx="4724280" cy="100368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“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_owner.mutable_string_param”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ptr.get_cci_value().get_string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Initialized within sc_main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685800" y="2133720"/>
            <a:ext cx="2357280" cy="504720"/>
          </a:xfrm>
          <a:prstGeom prst="roundRect">
            <a:avLst>
              <a:gd name="adj" fmla="val 31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 = 1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10"/>
          <p:cNvSpPr/>
          <p:nvPr/>
        </p:nvSpPr>
        <p:spPr>
          <a:xfrm>
            <a:off x="4138560" y="3769920"/>
            <a:ext cx="4829400" cy="638640"/>
          </a:xfrm>
          <a:prstGeom prst="roundRect">
            <a:avLst>
              <a:gd name="adj" fmla="val 22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543800" y="3235320"/>
            <a:ext cx="914400" cy="34596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4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17"/>
          <p:cNvSpPr/>
          <p:nvPr/>
        </p:nvSpPr>
        <p:spPr>
          <a:xfrm>
            <a:off x="1981080" y="281952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4" y="3600"/>
                </a:moveTo>
                <a:lnTo>
                  <a:pt x="25662" y="3600"/>
                </a:lnTo>
                <a:lnTo>
                  <a:pt x="25662" y="-7700"/>
                </a:lnTo>
                <a:lnTo>
                  <a:pt x="6920" y="-127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Line 1"/>
          <p:cNvSpPr/>
          <p:nvPr/>
        </p:nvSpPr>
        <p:spPr>
          <a:xfrm>
            <a:off x="265752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048120" y="3724200"/>
            <a:ext cx="914400" cy="314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4908600" y="4085280"/>
            <a:ext cx="4110120" cy="456120"/>
          </a:xfrm>
          <a:prstGeom prst="roundRect">
            <a:avLst>
              <a:gd name="adj" fmla="val 30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set_cci_value(cci::cci_value(10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4191120" y="1392840"/>
            <a:ext cx="4827600" cy="2281320"/>
          </a:xfrm>
          <a:prstGeom prst="roundRect">
            <a:avLst>
              <a:gd name="adj" fmla="val 7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param_owner.mutable_int_param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1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scrip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mutable type integer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Metadata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metadata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124080" y="1011240"/>
            <a:ext cx="914400" cy="284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5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1996920" y="2295360"/>
            <a:ext cx="198144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4165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3352680" y="502920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84" y="3600"/>
                </a:moveTo>
                <a:lnTo>
                  <a:pt x="-3588" y="3600"/>
                </a:lnTo>
                <a:lnTo>
                  <a:pt x="-3588" y="-20000"/>
                </a:lnTo>
                <a:lnTo>
                  <a:pt x="12072" y="-22189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503C0-BCF4-408D-9326-8BDCA9333996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"/>
          <p:cNvSpPr/>
          <p:nvPr/>
        </p:nvSpPr>
        <p:spPr>
          <a:xfrm>
            <a:off x="265752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2779560" y="3211560"/>
            <a:ext cx="110664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3984480" y="3634920"/>
            <a:ext cx="4957920" cy="63864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Lock value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lock()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4114800" y="1324800"/>
            <a:ext cx="4827600" cy="173376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param_owner.mutable_int_param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10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scrip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a mutable type integer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2895480" y="1011240"/>
            <a:ext cx="1011240" cy="284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6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10"/>
          <p:cNvSpPr/>
          <p:nvPr/>
        </p:nvSpPr>
        <p:spPr>
          <a:xfrm>
            <a:off x="2779560" y="4363920"/>
            <a:ext cx="110664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1"/>
          <p:cNvSpPr/>
          <p:nvPr/>
        </p:nvSpPr>
        <p:spPr>
          <a:xfrm>
            <a:off x="3984480" y="4911480"/>
            <a:ext cx="4957920" cy="63864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Unlock value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unlock()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13"/>
          <p:cNvSpPr/>
          <p:nvPr/>
        </p:nvSpPr>
        <p:spPr>
          <a:xfrm>
            <a:off x="1981080" y="2286000"/>
            <a:ext cx="198144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3482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P V S Phaneendra</dc:creator>
  <dc:description/>
  <cp:keywords>CTPClassification=CTP_IC:VisualMarkings=</cp:keywords>
  <dc:language>en-US</dc:language>
  <cp:lastModifiedBy>Wieman, Trevor</cp:lastModifiedBy>
  <cp:lastPrinted>2017-01-29T19:35:36Z</cp:lastPrinted>
  <dcterms:modified xsi:type="dcterms:W3CDTF">2017-12-15T20:28:53Z</dcterms:modified>
  <cp:revision>126</cp:revision>
  <dc:subject/>
  <dc:title>ex7_Parameter_Inform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0:28:52Z</vt:lpwstr>
  </property>
  <property fmtid="{D5CDD505-2E9C-101B-9397-08002B2CF9AE}" pid="5" name="TitusGUID">
    <vt:lpwstr>9c3cd9ca-52ed-4274-8e98-0bc921084663</vt:lpwstr>
  </property>
</Properties>
</file>