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4969-BD8D-4980-BB3F-F896B2059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09D8-29B8-40F5-AF43-56248125F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1A9A-6A56-469F-8ACD-B11683D3B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151F3-9702-4F93-97CF-6AEEF6889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37343-654E-4B37-8C3C-E46C125B1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6E4E-62DB-4A77-9F44-609E82BDB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77880-3E50-4E4C-958C-E70BC1E8E4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A900F-C76C-45FC-87FC-E4C5F11693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E9E26-9BC5-4706-AC6C-8C5BBE294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0888-11AD-4FD9-BCE5-24D4FEC81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C3B23-7700-46FA-8CC8-ED6E2D826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0D0CD-DFD1-4D43-BC63-CFB7D17D9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720BA-B8C4-4A3F-9FA7-DE08A9D21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00A2E-5C74-4B2F-AB38-B71B5C384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BCEC2-C050-437E-85C5-A1691E6E9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56D7-34DA-4DFC-B709-202932DBD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pile and Run CCI Example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i Lia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icsson 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vironments Used For This Descri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16.04 LTS 64 b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cc 5.4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GLIBC 2.23-0ubuntu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2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Studio Professional 20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1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1: Installations of SystemC and boost libraries are not covered in this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2: Instructions will need to be adapted for other configu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87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cci-0.9.0_pub_rev_20171217.tg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…/rapidjson-1.1.0.tar.gz -C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rmdir rapidjson; ln –s rapidjson-1.1.0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See cci-0.9.0_pub_rev_20171217/README.txt for instructions to download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he environment variables set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SYSTEMC_HOME=/home/lei/Downloads/systemc-2.3.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TLM_HOME="${SYSTEMC_HOME}/src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vobs/ti_systemc/tools/boost/boost_1_44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home/lei/Downloads/boost_1_62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CI_HOME=/home/lei/Downloads/cci-0.9.0_pub_rev_2017121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XX=g+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You can find a half-done script at cci_test/scripts/source.bas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src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packages/gs_brok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(contd.. 1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 the directory for compilation and ru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$CCI_HOME/cci_test/scrip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mkdir 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./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all 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one specified example with 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/ex01_Simple_Int_Para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$CCI_HOME/scripts/README_CCI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structions will be similar to those for Linux on slide #3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use 7-Zip to uncompress the kit (required due to long path nam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 from Visual Studio 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 (or rename) the top-level msvc10 directory to msvc14 to reflect VS20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ual Studio -&gt; File -&gt; Open -&gt; Project/Solution-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 “C:\cci-0.9.0_pub_rev_20171217\msvc14\cci\cci.sln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projects will be shown and they share the same property sheet ‘cci_lib.props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the property sh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 -&gt; Property Manag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 click on cci_li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Macr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Val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this demo, msvc10 -&gt; msvc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your windows environme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s for Boost and System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5529240" y="3657600"/>
            <a:ext cx="32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 (contd.. 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 to Visual Studio Solution and build “cciapi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examples from solution explo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 CCI solution, all example projects can be compiled and run di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if all libraries(CCI, SystemC, Boost) environment variables are set cor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C:\cci_code\cci_test\msvc14\cci\README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2-19T20:41:36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9 20:41:36Z</vt:lpwstr>
  </property>
  <property fmtid="{D5CDD505-2E9C-101B-9397-08002B2CF9AE}" pid="5" name="TitusGUID">
    <vt:lpwstr>e3de821b-1c25-48f5-972a-c3014a611f88</vt:lpwstr>
  </property>
</Properties>
</file>